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DF3-5856-4CB1-B2CC-4D77D342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312-C061-4B78-9239-1F4BF816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CB3-E049-42C9-B1FA-5CF79B0F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0BA-67A2-435F-8B2D-CE0D04CB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C5D9-3BAE-404D-9D1E-1CBD3492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4B44-4A27-489A-9F54-76D09C17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CCBE-1064-4BDB-AB8F-13C46F8A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4744-3B19-4FAC-865D-4B92369F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9F11-D369-4396-B26F-66390E84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B2DC-C362-4464-B593-52869B8F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CD7C-A3FF-42C0-A752-5C6E8CAE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427-5CF9-40CF-803A-D6D307A9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A66F-9A4E-4AB5-A081-9BA2E3EE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67F0-EBA1-4F94-9AF9-5F9AA794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A15D-D7DE-44CF-8F76-40FED563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39F2-BC1D-4B72-AE44-25054155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BF6D-6E2E-4F29-B0E0-EC44A03D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D4B-E9DF-485B-B0F0-315158C3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AFC-175C-4BA9-9929-5A3E0D5B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A6C-03E2-44DB-976D-8657B79B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868-CB06-4C8B-9787-7A28A48A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01A-2EA8-4F3A-B9F3-A62843D3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321-6E6F-462E-8C77-15988253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2B67-2C00-45F6-9BA1-4FADA6E8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642B-04F7-4FDB-8163-4F0AF4E925DA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A4F4-9CCD-45B4-8E59-29E9F057FDB3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E 3173 Lecture 14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AN - The Controller Area Networ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ome More Basic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bit rate of CAN is flexible, but is always fixed within a given system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ultimast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re is no specific bus master.  Any node may begin transmitting anytime the bus is free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rbitr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ot based on device priority, but </a:t>
            </a:r>
            <a:r>
              <a:rPr b="0" i="1" lang="en-US" sz="2000" spc="-1" strike="noStrike">
                <a:solidFill>
                  <a:srgbClr val="000000"/>
                </a:solidFill>
                <a:latin typeface="Lucida Grande"/>
              </a:rPr>
              <a:t>message priority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 system of dominant and recessive bits determines if what a unit is currently sending is more or less important that whatever else might be transmitting concurrently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nsuring Data Integrit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ata “safety” is paramoun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etecting errors the following measures have been taken: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ransmitters compare the bit levels to be transmitted with the bit levels detected on the bus)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ic Redundancy Check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Stuffing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ing a transition after a maximum number of sequential identical valu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Frame Check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oes It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l global errors are detected. 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lnSpc>
                <a:spcPct val="10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l local errors at transmitters are detected. 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lnSpc>
                <a:spcPct val="10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p to 5 randomly distributed errors in a message are detected. 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lnSpc>
                <a:spcPct val="10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rst errors of length less than 15 in a message are detected. 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lnSpc>
                <a:spcPct val="10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rrors of any odd number in a message are detected. 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lnSpc>
                <a:spcPct val="10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tal residual error probability for undetected corrupted messages: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lnSpc>
                <a:spcPct val="10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(message error rate) * 4.7 x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ven More Basic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ny node detecting an error can flag it, even if it doesn’t particularly care about the messag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Recovery period is no more than 29 “bit times”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s can have one of two complementary logical valu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mi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ce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simultaneous transmiss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i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e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s, the resulting bus value will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i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in case of a wired-AND implementation of the bus,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in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would be represented by a logic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ess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by a logic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ast Basic Thing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knowledgment 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lvl="1" marL="646200" indent="-248400">
              <a:lnSpc>
                <a:spcPct val="10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eceivers check the consistency of the message being received and will acknowledge a consistent message and flag an inconsistent message. 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lnSpc>
                <a:spcPct val="10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ep Mode / Wake-up 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lvl="1" marL="646200" indent="-248400">
              <a:lnSpc>
                <a:spcPct val="10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reduce the system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’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power consumption, a CAN-device may be set into sleep mode without any internal activity and with disconnected bus drivers. 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646200" indent="-248400">
              <a:lnSpc>
                <a:spcPct val="10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sleep mode is finished with a wake-up by any bus activity or by internal conditions of the system. 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646200" indent="-248400">
              <a:lnSpc>
                <a:spcPct val="10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 wake-up, the internal activity is restarted, although the transfer layer will be waiting for the system’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oscillator to stabilize and it will then wait until it has synchronized itself to the bus activity before the bus drivers are set to "on-bus" again. 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646200" indent="-248400">
              <a:lnSpc>
                <a:spcPct val="10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order to wake up other nodes of the system, which are in sleep-mode, a special wake-up message with the dedicated, lowest possible IDENTIFIER is used.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ram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A </a:t>
            </a:r>
            <a:r>
              <a:rPr b="0" i="1" lang="en-US" sz="1900" spc="-1" strike="noStrike">
                <a:solidFill>
                  <a:srgbClr val="000000"/>
                </a:solidFill>
                <a:latin typeface="Lucida Grande"/>
              </a:rPr>
              <a:t>data frame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 carries data from a transmitter to the receiver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Lucida Grande"/>
              </a:rPr>
              <a:t>s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A </a:t>
            </a:r>
            <a:r>
              <a:rPr b="0" i="1" lang="en-US" sz="1900" spc="-1" strike="noStrike">
                <a:solidFill>
                  <a:srgbClr val="000000"/>
                </a:solidFill>
                <a:latin typeface="Lucida Grande"/>
              </a:rPr>
              <a:t>remote frame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 requests transmission of the </a:t>
            </a:r>
            <a:r>
              <a:rPr b="0" i="1" lang="en-US" sz="1900" spc="-1" strike="noStrike">
                <a:solidFill>
                  <a:srgbClr val="000000"/>
                </a:solidFill>
                <a:latin typeface="Lucida Grande"/>
              </a:rPr>
              <a:t>data frame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 with the same identifier. 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An </a:t>
            </a:r>
            <a:r>
              <a:rPr b="0" i="1" lang="en-US" sz="1900" spc="-1" strike="noStrike">
                <a:solidFill>
                  <a:srgbClr val="000000"/>
                </a:solidFill>
                <a:latin typeface="Lucida Grande"/>
              </a:rPr>
              <a:t>error frame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 is transmitted by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Lucida Grande"/>
              </a:rPr>
              <a:t>any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 unit on detecting a bus error. 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An </a:t>
            </a:r>
            <a:r>
              <a:rPr b="0" i="1" lang="en-US" sz="1900" spc="-1" strike="noStrike">
                <a:solidFill>
                  <a:srgbClr val="000000"/>
                </a:solidFill>
                <a:latin typeface="Lucida Grande"/>
              </a:rPr>
              <a:t>overload frame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 is used to provide for an extra delay between the preceding and the succeeding data or remote frames. 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8320" y="2770200"/>
            <a:ext cx="40384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ata Frame Field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art of Frame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10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rks the beginning of data frames and remote frames. It consists of a singl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mina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it. 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10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station is only allowed to start transmission when the bus is idle. 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10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l stations have to synchronize to the leading edge caused by start of frame of the station starting transmission first. 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10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bitration Field 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10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sts of the identifier and the RTR Bit. 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10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2" marL="1009440" indent="-212400">
              <a:lnSpc>
                <a:spcPct val="10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 bits wide, ID10..ID0.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2" marL="1009440" indent="-212400">
              <a:lnSpc>
                <a:spcPct val="100000"/>
              </a:lnSpc>
              <a:spcBef>
                <a:spcPts val="34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7 most significant bits must not be all </a:t>
            </a:r>
            <a:r>
              <a:rPr b="0" lang="tet-TL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essive</a:t>
            </a:r>
            <a:r>
              <a:rPr b="0" lang="tet-TL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10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TR Bit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2" marL="1009440" indent="-212400">
              <a:lnSpc>
                <a:spcPct val="10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ot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smissio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est Bit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09440" indent="-212400">
              <a:lnSpc>
                <a:spcPct val="10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Frame: Dominant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09440" indent="-212400">
              <a:lnSpc>
                <a:spcPct val="10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te Frame: Recessive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ore Data Frame Field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Fiel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bits wid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 length 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wo bits reserved for future expans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erved bits have to be s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i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Length Code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ytes in the data field is indicated by the data length code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viously means a data frame can only contain 8 bytes of data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, what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at Data Length Code Th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msb doesn’t really get used, except for 8-byte transfer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 don’t know.  “By all accounts, it doesn't make sense.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2743200"/>
            <a:ext cx="40384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ore Data Frame Field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iel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from 0 to 8 bytes, which each contain 8 bits which are transferred MSB first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C Field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the CRC sequence followed by a CRC delimiter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C Sequence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 check sequence is derived from a cyclic redundancy code best suited for frames with bit counts less than 127 bit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C Delimiter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ess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ecture 12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AN: The Controller Area Networ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istory, Development, Motiv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mman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ore Data Frame Field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 Field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bits long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the ACK Slot and the ACK Delimiter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ACK FIELD the transmitting station sends tw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ce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s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ceiver which has received a valid message correctly, reports this to the transmitter by sending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mi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in the ACK Slo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K Delimiter is always a single recessive bi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Of Frame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es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s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emote Fram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ooks pretty much like a data frame, except the RTR bit is recessive and there’s no data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438280" y="3581280"/>
            <a:ext cx="472464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rror Fram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2376360"/>
            <a:ext cx="82296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rror Fram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The Error Flag is one of two types: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Passive or Activ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An Active Error flag is six consecutive dominant bits.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is violates bit stuffing rules, and causes everybody else to cry foul too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Will only be generated by an actively error checking station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Passive error flags are six consecutive recessive bits.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Only generated by passive station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ould be overwritten or ignored by other device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ERROR Delimiter 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Eight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ecessive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bits.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fter an Error Flag each station sends a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ecessive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bit and monitors the bus until it detects a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ecessive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bit.  Then, it sends seven more recessive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Uh-oh.  Something’s wrong.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Five Error Conditions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t Error: When the bit value that is monitored is different from the bit value that is sent.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998640" indent="-21024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ception is the sending of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e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during the stuffed bit stream of the Arbitration Field or during the ACK Slot.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ff Error: When the 6th consecutive equal bit level in a message field that should be “stuffed”.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C Error: If the calculated result is not the same as that received in the CRC sequence.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 Error: When a fixed-form bit field contains one or more illegal bits.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knowledgment Error: When a transmitter does not monitor 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ina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t during the ACK Slot.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hat do we do about these errors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AN claims to be a fault-tolerant bu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does it live out this claim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ne of the biggest questions: What does it do about a “babbling idiot’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AN Fault Confinemen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very busy unit maintains two counts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ceive Error Cou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ransmit Error Cou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 series of rules modifies these count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f Receive Error Count or Transmit Error Count &gt;= 127, a unit is forced into “passive error” mod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You get kicked off the bus if Transmit Error Count &gt;= 256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se counts seem large.  256 errors?  Let’s take a look at the rule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ault Count Rul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en a receiver detects an error, the Receive Error Count will be increased by 1, except when the detected error was a Bit Error during the sending of an Active Error Flag or an Overload Flag.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en a Receiver detect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in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 as the first bit after sending an error flag, the Receive Error Count will be increased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en a Transmitter sends an error flag, the Transmit Error Count is increased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ore Error Count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. If an Transmitter detects a bit error while sending an Active Error Flag or an Overload Flag the Transmit Error Count is increased by 8. 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10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5. If an Receiver detects a Bit Error while sending an Active Error Flag or an Overload Flag the Receive Error Count is increased by 8. 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10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. Any node tolerates up to 7 consecutive domina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its after sending an Active Error Flag, Passive Error Flag or Overload Flag. After detecting the 14th consecutiv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mina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it (in case of an Active Error Flag or an Overload Flag) or after detecting the 8th consecutiv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mina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it following a Passive Error Flag, and after each sequence of additional eight consecutiv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mina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its every Transmitter increases its Transmit Error Count by 8 and every Receiver increases its Receive Error Count by 8.  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ore Error Count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the successful transmission of a message (getting ACK and no error until End of Frame is finished) the Transmit Error Count is decreased by 1 unless it was already 0.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. After the successful reception of a message (reception without error up to the ACK Slot and the successful sending of the ACK bit), the Receive Error Count is decreased by 1, if it was between 1 and 127. If the Receive Error Count was 0, it stays 0, and if it was greater than 127, then it will be set to a value between 119 and 127.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evelopmen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o BMW and Mercedes engineers were sitting around one day complaining about how all the processors in their cars wouldn’t talk each other’s languag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y went to engineers at Robert Bosch GmbH, and Bosch developed CAN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mbH = Gesellschaft mit beschränkter Haftung, or basically “Limited Liability Corporation”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eveloped back in mid-1986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y 1987 Intel had CAN silicon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175248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ome Notes on Error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rror count value greater than about 96 indicates a heavily disturbed bus. It may be of advantage to provide means to test for this condition.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/8 = 1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before a node goes passive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/8 = 16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before a node gets kicked off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/8 = 3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o What About the Babbling Idiot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AN doesn’t provide any particular support for detection and elimination of babbling idiots. 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ther competitive protocols such as TTP (Time Triggered Protocol) find this to be a distinct shortcoming of CAN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 Poin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s a serial communications protocol which efficiently suppor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tribu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-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rol with a very high level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domain of application ranges from high speed networks to low cost multiplex wiring.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otive electronics, engine control units, sensors, anti-skid-systems, etc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 rates up to 1 Mbit/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same time i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st effe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uild into vehicle body electronic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AN Prioriti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oritization of messages 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uarantee of latency times 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figuration flexibility 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ulticast reception with time synchronization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wide data consistency 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ultimaster 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rror detection and signaling 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utomatic retransmission of corrupted messages as soon as the bus is idle again 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tinction between temporary errors and permanent  failures of nodes and autonomous switching off of defect nodes 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Yet Another Layered Protocol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ree Lay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bject Lay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ransfer Lay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s far as we are really concerned, only the Transfer Layer is really important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other two are summarized on the next slide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Object Layer and Physical Layer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The Object Layer: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s messages are to be transmitted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s which messages received by the transfer layer are actually to be used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an interface to the application layer related hardware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s sayeth the spec: “There is much freedom in defining object handling.”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hysical Layer: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ever works for you, but it had better be pretty noise tolerant. 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ds to be differential pairs.  Twisted pair is even better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ome Transfer Layer Basic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Grande"/>
              </a:rPr>
              <a:t>Messages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: The basic unit of transfer.  Various sizes, contents and prioritie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SMA/CD Networ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 CAN Node knows nothing about the network it is on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that’s okay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 fact, it’s pretty useful.  It leads to the following desirable characteristics for CAN…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 know nah-sink!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enefits of “Network Ignorance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ystem Flexibil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o handshaking, introductions, etc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o limitation to number of devic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essage Rout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Message ID doesn’t indicate who it’s from or who it’s to, but what it means!  Each node decides whether it needs to act upon that message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very node </a:t>
            </a:r>
            <a:r>
              <a:rPr b="0" i="1" lang="en-US" sz="2000" spc="-1" strike="noStrike">
                <a:solidFill>
                  <a:srgbClr val="000000"/>
                </a:solidFill>
                <a:latin typeface="Lucida Grande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receive a message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ata Consistenc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verybody should see the same message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19:32:29Z</dcterms:created>
  <dc:creator>Christopher Cischke</dc:creator>
  <dc:description/>
  <dc:language>en-US</dc:language>
  <cp:lastModifiedBy>Christopher Cischke</cp:lastModifiedBy>
  <dcterms:modified xsi:type="dcterms:W3CDTF">2008-04-09T11:56:59Z</dcterms:modified>
  <cp:revision>10</cp:revision>
  <dc:subject/>
  <dc:title>EE 3173 Lecture </dc:title>
</cp:coreProperties>
</file>