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7.jpeg" ContentType="image/jpeg"/>
  <Override PartName="/ppt/media/image17.png" ContentType="image/png"/>
  <Override PartName="/ppt/media/image26.jpeg" ContentType="image/jpeg"/>
  <Override PartName="/ppt/media/image23.jpeg" ContentType="image/jpeg"/>
  <Override PartName="/ppt/media/image1.png" ContentType="image/png"/>
  <Override PartName="/ppt/media/image24.png" ContentType="image/png"/>
  <Override PartName="/ppt/media/image22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move the slid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DD178-A945-4EE2-91D4-DE76A316B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71360" indent="-17136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CI Express is a highly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caleable serial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bus architecture that will replace today’s PCI &amp; AGP bus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713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on’t confuse PCI Express with PCI-X, which is a high bandwidth variant of today’s parallel PCI architec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CI Express uses selectable “lane” architecture to sca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713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ach “lane” is two bits wide (one in each direction) - - - Each PCI-E lane is designed to provide 5 Gigabits per second bandwidth - - -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CI Express is designed to enable performance increases over ti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713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PCI-E lane architecture is designed such that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 x1 card can be used in a x16 slot - - - NO MORE DEDICATED SLOTS, PROVIDING YOU GREATER FLEXIBIL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I Express will initially be found in x1, x4, x8, and x16 configur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713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1 is like today’s PCI, except with a lot more bandwidth for the fu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713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4 and x8 are for high bandwidth apps, like high-end storage and commun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713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6 is for graphics, and is expected to provide 5 times the bandwidth of AGP 8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ue to the reduced pin count of PCI Express, PCI E is predicted to be a cost effective way to deliver high bandwidth for the future for both desktops &amp; noteboo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ptiPlex 280 series chassis’ will have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MT – 3 PCI and 1 PCI-E x1 and 1 PCI-E x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D – 1 PCI-E x16 (low profile) and a riser with 2 PCI slots on the riser FULL HEIGHT. Via CFI customers can get and optional riser (1 PCI-E x1 and 1 PCI) in lieu of the factory installed riser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FF – 1 low profile PCI slot and 1 PCI-E x16 (low profil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FF – no slo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E63D-0426-48C6-BB29-4C2C593F8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567C-E8D0-4765-98EB-B46C73358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600D-0B80-469A-96D6-07E494C86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FC4F-E5C0-4AF8-BBCF-AC04D3A33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51FA9-CAFF-4C36-8B1F-32AB994AD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2F461-2062-4B2E-B7A9-FECA6A78E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EF867-386D-416E-8F42-85579018F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8AA6B-45D6-4623-921A-AB3000826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8C8D4-6B55-4EE0-8B31-AF37D4719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0B2D7-3BA8-4B80-8A34-FF8804F30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1B78D-3E37-4B11-B59B-39A4987D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5826-F6F1-4BA5-9359-549245354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D358E-BD1F-475E-902A-570D2B6F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C447A-2F3B-49BA-8BFB-AC538014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7FA8E-9E4B-4338-967C-5696D9647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D7868-9115-4CC9-9D61-293100D81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12F61-CED2-4EE4-A35D-450B13B12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1645-02A5-470F-8171-C5EDB56D2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CDA6-7B66-481C-843E-F6037E16C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9E82-B212-4946-A7D5-32D67C19B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3BC9-D1C6-4161-BC62-07D8DFAE3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B787-32A7-4EE4-AEBD-1D33085C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ABD1-3439-46EB-8B95-EA5CBDD3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CDAB-7548-4B0E-990D-32D44E6F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611C1-0F01-422F-9EFA-F2951BD162A0}" type="slidenum">
              <a:rPr b="0" lang="en-US" sz="1400" spc="-1" strike="noStrike">
                <a:solidFill>
                  <a:srgbClr val="1822c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752480"/>
            <a:chOff x="0" y="0"/>
            <a:chExt cx="9144000" cy="1752480"/>
          </a:xfrm>
        </p:grpSpPr>
        <p:grpSp>
          <p:nvGrpSpPr>
            <p:cNvPr id="6" name=""/>
            <p:cNvGrpSpPr/>
            <p:nvPr/>
          </p:nvGrpSpPr>
          <p:grpSpPr>
            <a:xfrm>
              <a:off x="6480" y="1219320"/>
              <a:ext cx="9137520" cy="380160"/>
              <a:chOff x="6480" y="1219320"/>
              <a:chExt cx="9137520" cy="38016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1241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1334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1219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1554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1327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1219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600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1184400"/>
              <a:ext cx="9139320" cy="74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27920" indent="-28008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063800" indent="-22392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400040" indent="-22392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1735920" indent="-22392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1735920" indent="-2239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1735920" indent="-2239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D9328-061D-4B2D-9D10-25EF0C5FA300}" type="slidenum">
              <a:rPr b="0" lang="en-US" sz="1400" spc="-1" strike="noStrike">
                <a:solidFill>
                  <a:srgbClr val="1822c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7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9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857160" algn="ctr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3" marL="1200240" algn="ctr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4" marL="1542960" algn="ctr">
              <a:spcBef>
                <a:spcPts val="4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EE 3173 Lecture 9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PCI Expres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Lucida Grande"/>
              </a:rPr>
              <a:t>Conventional PCI on the Desktop</a:t>
            </a:r>
            <a:endParaRPr b="1" lang="en-US" sz="32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36" name=""/>
          <p:cNvSpPr/>
          <p:nvPr/>
        </p:nvSpPr>
        <p:spPr>
          <a:xfrm>
            <a:off x="504000" y="18860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I NIC card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099040" y="1879560"/>
            <a:ext cx="3336840" cy="40705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259000" y="5232240"/>
            <a:ext cx="28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and today’s PCI-Based Mother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85640" y="2387520"/>
          <a:ext cx="3329280" cy="247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640" y="2387520"/>
                    <a:ext cx="3329280" cy="24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Lucida Grande"/>
              </a:rPr>
              <a:t>PCI Express on the Desktop</a:t>
            </a:r>
            <a:endParaRPr b="1" lang="en-US" sz="3200" spc="-1" strike="noStrike">
              <a:solidFill>
                <a:srgbClr val="1822cd"/>
              </a:solidFill>
              <a:latin typeface="Lucida Grande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588960" y="2133720"/>
          <a:ext cx="3278160" cy="238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8960" y="2133720"/>
                    <a:ext cx="3278160" cy="23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506520" y="1792440"/>
            <a:ext cx="231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I-E X1 NIC c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5148360" y="1835280"/>
            <a:ext cx="3476520" cy="40906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494000" y="4788000"/>
            <a:ext cx="384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 motherboard with PCI and PCI-E slots...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 is expected to save board space and enable smaller form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38840" y="4084560"/>
            <a:ext cx="1150920" cy="8049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22cd"/>
                </a:solidFill>
                <a:latin typeface="Lucida Grande"/>
              </a:rPr>
              <a:t>PCI Express: Removing the Bottlenecks</a:t>
            </a:r>
            <a:endParaRPr b="1" lang="en-US" sz="3600" spc="-1" strike="noStrike">
              <a:solidFill>
                <a:srgbClr val="1822cd"/>
              </a:solidFill>
              <a:latin typeface="Lucida Grande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387440" y="1874880"/>
            <a:ext cx="6367320" cy="45259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355760" y="1854360"/>
            <a:ext cx="4132080" cy="17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3d1f0"/>
                </a:solidFill>
                <a:latin typeface="Arial"/>
              </a:rPr>
              <a:t>32-bit PCI Architecture provides 133 MB/sec. </a:t>
            </a:r>
            <a:r>
              <a:rPr b="0" i="1" lang="en-US" sz="1800" spc="-1" strike="noStrike" u="sng">
                <a:solidFill>
                  <a:srgbClr val="b3d1f0"/>
                </a:solidFill>
                <a:uFillTx/>
                <a:latin typeface="Arial"/>
              </a:rPr>
              <a:t>shared bandwi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3d1f0"/>
                </a:solidFill>
                <a:latin typeface="Arial"/>
              </a:rPr>
              <a:t>PCI bandwidth has not sca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400"/>
              </a:spcBef>
              <a:buClr>
                <a:srgbClr val="3568c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3d1f0"/>
                </a:solidFill>
                <a:latin typeface="Arial"/>
              </a:rPr>
              <a:t>High performance 64-bit architectures limited to high-end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38040" y="1879560"/>
            <a:ext cx="836784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80000"/>
              </a:lnSpc>
              <a:spcBef>
                <a:spcPts val="4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Grande"/>
              </a:rPr>
              <a:t>PCI Express is a highly scaleable serial bus architecture that will eventually replace today’s PCI &amp; AGP busses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230040" indent="-230040">
              <a:lnSpc>
                <a:spcPct val="80000"/>
              </a:lnSpc>
              <a:spcBef>
                <a:spcPts val="4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Grande"/>
              </a:rPr>
              <a:t>PCI Express devices will use a variety of “lanes” to scale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1" marL="679320" indent="-334800">
              <a:lnSpc>
                <a:spcPct val="85000"/>
              </a:lnSpc>
              <a:spcBef>
                <a:spcPts val="326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Each “lane” is two bits wide (one in each direction) &amp; can provide 5Gb/sec bandwidth</a:t>
            </a:r>
            <a:endParaRPr b="0" lang="en-US" sz="1300" spc="-1" strike="noStrike">
              <a:solidFill>
                <a:srgbClr val="000000"/>
              </a:solidFill>
              <a:latin typeface="Lucida Grande"/>
            </a:endParaRPr>
          </a:p>
          <a:p>
            <a:pPr lvl="1" marL="679320" indent="-334800">
              <a:lnSpc>
                <a:spcPct val="85000"/>
              </a:lnSpc>
              <a:spcBef>
                <a:spcPts val="326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PCI Express will be found in x1, x4, x8, and x16 configurations</a:t>
            </a:r>
            <a:endParaRPr b="0" lang="en-US" sz="13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2" name=""/>
          <p:cNvSpPr/>
          <p:nvPr/>
        </p:nvSpPr>
        <p:spPr>
          <a:xfrm>
            <a:off x="420840" y="3244680"/>
            <a:ext cx="2666880" cy="12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CI Express x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CI card replacement; Typical x1 devices will be Network cards, Modems, et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CI-E x1 bandwidth designed to provide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00MB/sec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vs.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33MB/se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for 32-bit/33 MHz PC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563400" y="4606920"/>
            <a:ext cx="2167200" cy="1336680"/>
            <a:chOff x="563400" y="4606920"/>
            <a:chExt cx="2167200" cy="1336680"/>
          </a:xfrm>
        </p:grpSpPr>
        <p:sp>
          <p:nvSpPr>
            <p:cNvPr id="154" name=""/>
            <p:cNvSpPr/>
            <p:nvPr/>
          </p:nvSpPr>
          <p:spPr>
            <a:xfrm>
              <a:off x="563400" y="4606920"/>
              <a:ext cx="2167200" cy="1336680"/>
            </a:xfrm>
            <a:prstGeom prst="rect">
              <a:avLst/>
            </a:prstGeom>
            <a:solidFill>
              <a:srgbClr val="00c241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683640" y="4780800"/>
              <a:ext cx="226440" cy="1037160"/>
              <a:chOff x="683640" y="4780800"/>
              <a:chExt cx="226440" cy="103716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683640" y="4780800"/>
                <a:ext cx="226440" cy="263160"/>
                <a:chOff x="683640" y="4780800"/>
                <a:chExt cx="226440" cy="263160"/>
              </a:xfrm>
            </p:grpSpPr>
            <p:sp>
              <p:nvSpPr>
                <p:cNvPr id="157" name=""/>
                <p:cNvSpPr/>
                <p:nvPr/>
              </p:nvSpPr>
              <p:spPr>
                <a:xfrm flipV="1">
                  <a:off x="683640" y="4780800"/>
                  <a:ext cx="0" cy="263160"/>
                </a:xfrm>
                <a:prstGeom prst="line">
                  <a:avLst/>
                </a:prstGeom>
                <a:ln w="76320">
                  <a:solidFill>
                    <a:srgbClr val="ff99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683640" y="5024520"/>
                  <a:ext cx="226440" cy="0"/>
                </a:xfrm>
                <a:prstGeom prst="line">
                  <a:avLst/>
                </a:prstGeom>
                <a:ln w="7632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683640" y="5563440"/>
                <a:ext cx="225000" cy="254520"/>
                <a:chOff x="683640" y="5563440"/>
                <a:chExt cx="225000" cy="25452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683640" y="5563440"/>
                  <a:ext cx="0" cy="254520"/>
                </a:xfrm>
                <a:prstGeom prst="line">
                  <a:avLst/>
                </a:prstGeom>
                <a:ln w="76320">
                  <a:solidFill>
                    <a:srgbClr val="ff99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83640" y="5582520"/>
                  <a:ext cx="225000" cy="0"/>
                </a:xfrm>
                <a:prstGeom prst="line">
                  <a:avLst/>
                </a:prstGeom>
                <a:ln w="7632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2" name=""/>
            <p:cNvSpPr/>
            <p:nvPr/>
          </p:nvSpPr>
          <p:spPr>
            <a:xfrm rot="10800000">
              <a:off x="869040" y="4823280"/>
              <a:ext cx="342720" cy="103608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194b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3d1f0"/>
                  </a:solidFill>
                  <a:latin typeface="Arial"/>
                </a:rPr>
                <a:t>Device 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1278720" y="5697000"/>
              <a:ext cx="707760" cy="49320"/>
              <a:chOff x="1278720" y="5697000"/>
              <a:chExt cx="707760" cy="49320"/>
            </a:xfrm>
          </p:grpSpPr>
          <p:sp>
            <p:nvSpPr>
              <p:cNvPr id="164" name=""/>
              <p:cNvSpPr/>
              <p:nvPr/>
            </p:nvSpPr>
            <p:spPr>
              <a:xfrm>
                <a:off x="1278720" y="5697000"/>
                <a:ext cx="707760" cy="43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280520" y="5746320"/>
                <a:ext cx="70560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 rot="10800000">
              <a:off x="1992600" y="4823280"/>
              <a:ext cx="343080" cy="103608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194b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3d1f0"/>
                  </a:solidFill>
                  <a:latin typeface="Arial"/>
                </a:rPr>
                <a:t>Device 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383200" y="4781160"/>
              <a:ext cx="226800" cy="1037160"/>
              <a:chOff x="2383200" y="4781160"/>
              <a:chExt cx="226800" cy="1037160"/>
            </a:xfrm>
          </p:grpSpPr>
          <p:grpSp>
            <p:nvGrpSpPr>
              <p:cNvPr id="168" name=""/>
              <p:cNvGrpSpPr/>
              <p:nvPr/>
            </p:nvGrpSpPr>
            <p:grpSpPr>
              <a:xfrm>
                <a:off x="2383200" y="4781160"/>
                <a:ext cx="226800" cy="262800"/>
                <a:chOff x="2383200" y="4781160"/>
                <a:chExt cx="226800" cy="262800"/>
              </a:xfrm>
            </p:grpSpPr>
            <p:sp>
              <p:nvSpPr>
                <p:cNvPr id="169" name=""/>
                <p:cNvSpPr/>
                <p:nvPr/>
              </p:nvSpPr>
              <p:spPr>
                <a:xfrm flipV="1">
                  <a:off x="2610000" y="4781160"/>
                  <a:ext cx="0" cy="262800"/>
                </a:xfrm>
                <a:prstGeom prst="line">
                  <a:avLst/>
                </a:prstGeom>
                <a:ln w="76320">
                  <a:solidFill>
                    <a:srgbClr val="ff99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 flipH="1">
                  <a:off x="2383200" y="5024160"/>
                  <a:ext cx="226800" cy="0"/>
                </a:xfrm>
                <a:prstGeom prst="line">
                  <a:avLst/>
                </a:prstGeom>
                <a:ln w="7632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2384280" y="5563440"/>
                <a:ext cx="225720" cy="254880"/>
                <a:chOff x="2384280" y="5563440"/>
                <a:chExt cx="225720" cy="2548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2610000" y="5563440"/>
                  <a:ext cx="0" cy="254880"/>
                </a:xfrm>
                <a:prstGeom prst="line">
                  <a:avLst/>
                </a:prstGeom>
                <a:ln w="76320">
                  <a:solidFill>
                    <a:srgbClr val="ff99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 flipH="1">
                  <a:off x="2384280" y="5582880"/>
                  <a:ext cx="225720" cy="0"/>
                </a:xfrm>
                <a:prstGeom prst="line">
                  <a:avLst/>
                </a:prstGeom>
                <a:ln w="7632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4" name=""/>
          <p:cNvSpPr/>
          <p:nvPr/>
        </p:nvSpPr>
        <p:spPr>
          <a:xfrm>
            <a:off x="3219480" y="3208320"/>
            <a:ext cx="2666880" cy="11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CI Express x4 &amp; x8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d for high-end networking &amp; storage solutions such as dual GbE, 10GbE &amp; S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CI-E x4/x8 support will be limited to enterprise &amp; workstation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3411360" y="4622760"/>
            <a:ext cx="2241720" cy="1365120"/>
            <a:chOff x="3411360" y="4622760"/>
            <a:chExt cx="2241720" cy="1365120"/>
          </a:xfrm>
        </p:grpSpPr>
        <p:sp>
          <p:nvSpPr>
            <p:cNvPr id="176" name=""/>
            <p:cNvSpPr/>
            <p:nvPr/>
          </p:nvSpPr>
          <p:spPr>
            <a:xfrm>
              <a:off x="3411360" y="4622760"/>
              <a:ext cx="2241720" cy="1365120"/>
            </a:xfrm>
            <a:prstGeom prst="rect">
              <a:avLst/>
            </a:prstGeom>
            <a:solidFill>
              <a:srgbClr val="00c241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3535920" y="4800240"/>
              <a:ext cx="234000" cy="1059840"/>
              <a:chOff x="3535920" y="4800240"/>
              <a:chExt cx="234000" cy="1059840"/>
            </a:xfrm>
          </p:grpSpPr>
          <p:grpSp>
            <p:nvGrpSpPr>
              <p:cNvPr id="178" name=""/>
              <p:cNvGrpSpPr/>
              <p:nvPr/>
            </p:nvGrpSpPr>
            <p:grpSpPr>
              <a:xfrm>
                <a:off x="3535920" y="4800240"/>
                <a:ext cx="234000" cy="268920"/>
                <a:chOff x="3535920" y="4800240"/>
                <a:chExt cx="234000" cy="268920"/>
              </a:xfrm>
            </p:grpSpPr>
            <p:sp>
              <p:nvSpPr>
                <p:cNvPr id="179" name=""/>
                <p:cNvSpPr/>
                <p:nvPr/>
              </p:nvSpPr>
              <p:spPr>
                <a:xfrm flipV="1">
                  <a:off x="3535920" y="4800240"/>
                  <a:ext cx="0" cy="268920"/>
                </a:xfrm>
                <a:prstGeom prst="line">
                  <a:avLst/>
                </a:prstGeom>
                <a:ln w="76320">
                  <a:solidFill>
                    <a:srgbClr val="ff99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3535920" y="5049000"/>
                  <a:ext cx="234000" cy="0"/>
                </a:xfrm>
                <a:prstGeom prst="line">
                  <a:avLst/>
                </a:prstGeom>
                <a:ln w="7632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3535920" y="5599800"/>
                <a:ext cx="232560" cy="260280"/>
                <a:chOff x="3535920" y="5599800"/>
                <a:chExt cx="232560" cy="26028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3535920" y="5599800"/>
                  <a:ext cx="0" cy="260280"/>
                </a:xfrm>
                <a:prstGeom prst="line">
                  <a:avLst/>
                </a:prstGeom>
                <a:ln w="76320">
                  <a:solidFill>
                    <a:srgbClr val="ff99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535920" y="5619240"/>
                  <a:ext cx="232560" cy="0"/>
                </a:xfrm>
                <a:prstGeom prst="line">
                  <a:avLst/>
                </a:prstGeom>
                <a:ln w="7632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4" name=""/>
            <p:cNvSpPr/>
            <p:nvPr/>
          </p:nvSpPr>
          <p:spPr>
            <a:xfrm rot="10800000">
              <a:off x="3727080" y="4843440"/>
              <a:ext cx="354600" cy="105804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194b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3d1f0"/>
                  </a:solidFill>
                  <a:latin typeface="Arial"/>
                </a:rPr>
                <a:t>Device 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4151160" y="5736240"/>
              <a:ext cx="732240" cy="50040"/>
              <a:chOff x="4151160" y="5736240"/>
              <a:chExt cx="732240" cy="50040"/>
            </a:xfrm>
          </p:grpSpPr>
          <p:sp>
            <p:nvSpPr>
              <p:cNvPr id="186" name=""/>
              <p:cNvSpPr/>
              <p:nvPr/>
            </p:nvSpPr>
            <p:spPr>
              <a:xfrm>
                <a:off x="4151160" y="5736240"/>
                <a:ext cx="732240" cy="43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152960" y="5786280"/>
                <a:ext cx="73008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155840" y="4859640"/>
              <a:ext cx="731880" cy="51480"/>
              <a:chOff x="4155840" y="4859640"/>
              <a:chExt cx="731880" cy="51480"/>
            </a:xfrm>
          </p:grpSpPr>
          <p:sp>
            <p:nvSpPr>
              <p:cNvPr id="189" name=""/>
              <p:cNvSpPr/>
              <p:nvPr/>
            </p:nvSpPr>
            <p:spPr>
              <a:xfrm>
                <a:off x="4155840" y="4859640"/>
                <a:ext cx="731880" cy="43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157640" y="4911120"/>
                <a:ext cx="72972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4151160" y="5151600"/>
              <a:ext cx="732240" cy="51480"/>
              <a:chOff x="4151160" y="5151600"/>
              <a:chExt cx="732240" cy="51480"/>
            </a:xfrm>
          </p:grpSpPr>
          <p:sp>
            <p:nvSpPr>
              <p:cNvPr id="192" name=""/>
              <p:cNvSpPr/>
              <p:nvPr/>
            </p:nvSpPr>
            <p:spPr>
              <a:xfrm>
                <a:off x="4151160" y="5151600"/>
                <a:ext cx="732240" cy="43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152960" y="5203080"/>
                <a:ext cx="73008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4151160" y="5443920"/>
              <a:ext cx="732240" cy="50040"/>
              <a:chOff x="4151160" y="5443920"/>
              <a:chExt cx="732240" cy="50040"/>
            </a:xfrm>
          </p:grpSpPr>
          <p:sp>
            <p:nvSpPr>
              <p:cNvPr id="195" name=""/>
              <p:cNvSpPr/>
              <p:nvPr/>
            </p:nvSpPr>
            <p:spPr>
              <a:xfrm>
                <a:off x="4151160" y="5443920"/>
                <a:ext cx="732240" cy="43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152960" y="5493960"/>
                <a:ext cx="73008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 rot="10800000">
              <a:off x="4889880" y="4843440"/>
              <a:ext cx="354600" cy="105804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194b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3d1f0"/>
                  </a:solidFill>
                  <a:latin typeface="Arial"/>
                </a:rPr>
                <a:t>Device 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5293800" y="4800600"/>
              <a:ext cx="234000" cy="1059120"/>
              <a:chOff x="5293800" y="4800600"/>
              <a:chExt cx="234000" cy="1059120"/>
            </a:xfrm>
          </p:grpSpPr>
          <p:grpSp>
            <p:nvGrpSpPr>
              <p:cNvPr id="199" name=""/>
              <p:cNvGrpSpPr/>
              <p:nvPr/>
            </p:nvGrpSpPr>
            <p:grpSpPr>
              <a:xfrm>
                <a:off x="5293800" y="4800600"/>
                <a:ext cx="234000" cy="268560"/>
                <a:chOff x="5293800" y="4800600"/>
                <a:chExt cx="234000" cy="268560"/>
              </a:xfrm>
            </p:grpSpPr>
            <p:sp>
              <p:nvSpPr>
                <p:cNvPr id="200" name=""/>
                <p:cNvSpPr/>
                <p:nvPr/>
              </p:nvSpPr>
              <p:spPr>
                <a:xfrm flipV="1">
                  <a:off x="5527800" y="4800600"/>
                  <a:ext cx="0" cy="268560"/>
                </a:xfrm>
                <a:prstGeom prst="line">
                  <a:avLst/>
                </a:prstGeom>
                <a:ln w="76320">
                  <a:solidFill>
                    <a:srgbClr val="ff99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flipH="1">
                  <a:off x="5293800" y="5048640"/>
                  <a:ext cx="234000" cy="0"/>
                </a:xfrm>
                <a:prstGeom prst="line">
                  <a:avLst/>
                </a:prstGeom>
                <a:ln w="7632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5294880" y="5599440"/>
                <a:ext cx="232920" cy="260280"/>
                <a:chOff x="5294880" y="5599440"/>
                <a:chExt cx="232920" cy="26028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5527800" y="5599440"/>
                  <a:ext cx="0" cy="260280"/>
                </a:xfrm>
                <a:prstGeom prst="line">
                  <a:avLst/>
                </a:prstGeom>
                <a:ln w="76320">
                  <a:solidFill>
                    <a:srgbClr val="ff99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flipH="1">
                  <a:off x="5294880" y="5618880"/>
                  <a:ext cx="232920" cy="0"/>
                </a:xfrm>
                <a:prstGeom prst="line">
                  <a:avLst/>
                </a:prstGeom>
                <a:ln w="7632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05" name=""/>
          <p:cNvSpPr/>
          <p:nvPr/>
        </p:nvSpPr>
        <p:spPr>
          <a:xfrm>
            <a:off x="5859360" y="3262320"/>
            <a:ext cx="297180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CI Expre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1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GP replac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GP bus tops out at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 GB/sec.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ndwidth (AGP 8x) while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CI-E x16 is designed to provide 8GB/sec. of bandwid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6431040" y="4606920"/>
            <a:ext cx="2090520" cy="1368360"/>
            <a:chOff x="6431040" y="4606920"/>
            <a:chExt cx="2090520" cy="1368360"/>
          </a:xfrm>
        </p:grpSpPr>
        <p:sp>
          <p:nvSpPr>
            <p:cNvPr id="207" name=""/>
            <p:cNvSpPr/>
            <p:nvPr/>
          </p:nvSpPr>
          <p:spPr>
            <a:xfrm>
              <a:off x="6431040" y="4606920"/>
              <a:ext cx="2090520" cy="1368360"/>
            </a:xfrm>
            <a:prstGeom prst="rect">
              <a:avLst/>
            </a:prstGeom>
            <a:solidFill>
              <a:srgbClr val="00c241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6546960" y="4785120"/>
              <a:ext cx="1857240" cy="1103400"/>
              <a:chOff x="6546960" y="4785120"/>
              <a:chExt cx="1857240" cy="110340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6546960" y="4785120"/>
                <a:ext cx="218520" cy="1061640"/>
                <a:chOff x="6546960" y="4785120"/>
                <a:chExt cx="218520" cy="10616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6546960" y="4785120"/>
                  <a:ext cx="218520" cy="269280"/>
                  <a:chOff x="6546960" y="4785120"/>
                  <a:chExt cx="218520" cy="26928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 flipV="1">
                    <a:off x="6546960" y="4785120"/>
                    <a:ext cx="0" cy="269280"/>
                  </a:xfrm>
                  <a:prstGeom prst="line">
                    <a:avLst/>
                  </a:prstGeom>
                  <a:ln w="76320">
                    <a:solidFill>
                      <a:srgbClr val="ff99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546960" y="5033880"/>
                    <a:ext cx="218520" cy="0"/>
                  </a:xfrm>
                  <a:prstGeom prst="line">
                    <a:avLst/>
                  </a:prstGeom>
                  <a:ln w="7632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3" name=""/>
                <p:cNvGrpSpPr/>
                <p:nvPr/>
              </p:nvGrpSpPr>
              <p:grpSpPr>
                <a:xfrm>
                  <a:off x="6546960" y="5586120"/>
                  <a:ext cx="217440" cy="260640"/>
                  <a:chOff x="6546960" y="5586120"/>
                  <a:chExt cx="217440" cy="26064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6546960" y="5586120"/>
                    <a:ext cx="0" cy="260640"/>
                  </a:xfrm>
                  <a:prstGeom prst="line">
                    <a:avLst/>
                  </a:prstGeom>
                  <a:ln w="76320">
                    <a:solidFill>
                      <a:srgbClr val="ff99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6546960" y="5605920"/>
                    <a:ext cx="217440" cy="0"/>
                  </a:xfrm>
                  <a:prstGeom prst="line">
                    <a:avLst/>
                  </a:prstGeom>
                  <a:ln w="7632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16" name=""/>
              <p:cNvSpPr/>
              <p:nvPr/>
            </p:nvSpPr>
            <p:spPr>
              <a:xfrm rot="10800000">
                <a:off x="6725520" y="4827600"/>
                <a:ext cx="330480" cy="1060920"/>
              </a:xfrm>
              <a:prstGeom prst="rect">
                <a:avLst/>
              </a:prstGeom>
              <a:gradFill rotWithShape="0">
                <a:gsLst>
                  <a:gs pos="0">
                    <a:srgbClr val="3399ff"/>
                  </a:gs>
                  <a:gs pos="100000">
                    <a:srgbClr val="194b7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3d1f0"/>
                    </a:solidFill>
                    <a:latin typeface="Arial"/>
                  </a:rPr>
                  <a:t>Device 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7" name=""/>
              <p:cNvGrpSpPr/>
              <p:nvPr/>
            </p:nvGrpSpPr>
            <p:grpSpPr>
              <a:xfrm>
                <a:off x="7120440" y="5722920"/>
                <a:ext cx="682560" cy="50400"/>
                <a:chOff x="7120440" y="5722920"/>
                <a:chExt cx="682560" cy="5040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7120440" y="5722920"/>
                  <a:ext cx="682560" cy="432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7122240" y="5773320"/>
                  <a:ext cx="680400" cy="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7124760" y="4844160"/>
                <a:ext cx="682560" cy="51480"/>
                <a:chOff x="7124760" y="4844160"/>
                <a:chExt cx="682560" cy="5148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7124760" y="4844160"/>
                  <a:ext cx="682560" cy="432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126560" y="4895640"/>
                  <a:ext cx="680400" cy="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7120440" y="5613480"/>
                <a:ext cx="682560" cy="50400"/>
                <a:chOff x="7120440" y="5613480"/>
                <a:chExt cx="682560" cy="5040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7120440" y="5613480"/>
                  <a:ext cx="682560" cy="432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122240" y="5663880"/>
                  <a:ext cx="680400" cy="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7120440" y="4953600"/>
                <a:ext cx="682560" cy="51480"/>
                <a:chOff x="7120440" y="4953600"/>
                <a:chExt cx="682560" cy="5148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7120440" y="4953600"/>
                  <a:ext cx="682560" cy="432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122240" y="5005080"/>
                  <a:ext cx="680400" cy="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9" name=""/>
              <p:cNvGrpSpPr/>
              <p:nvPr/>
            </p:nvGrpSpPr>
            <p:grpSpPr>
              <a:xfrm>
                <a:off x="7120440" y="5175000"/>
                <a:ext cx="682560" cy="50400"/>
                <a:chOff x="7120440" y="5175000"/>
                <a:chExt cx="682560" cy="5040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7120440" y="5175000"/>
                  <a:ext cx="682560" cy="432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7122240" y="5225400"/>
                  <a:ext cx="680400" cy="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2" name=""/>
              <p:cNvGrpSpPr/>
              <p:nvPr/>
            </p:nvGrpSpPr>
            <p:grpSpPr>
              <a:xfrm>
                <a:off x="7120440" y="5394240"/>
                <a:ext cx="682560" cy="50400"/>
                <a:chOff x="7120440" y="5394240"/>
                <a:chExt cx="682560" cy="5040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7120440" y="5394240"/>
                  <a:ext cx="682560" cy="432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7122240" y="5444640"/>
                  <a:ext cx="680400" cy="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7120440" y="5064480"/>
                <a:ext cx="682560" cy="51480"/>
                <a:chOff x="7120440" y="5064480"/>
                <a:chExt cx="682560" cy="5148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7120440" y="5064480"/>
                  <a:ext cx="682560" cy="432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22240" y="5115960"/>
                  <a:ext cx="680400" cy="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7120440" y="5284440"/>
                <a:ext cx="682560" cy="50400"/>
                <a:chOff x="7120440" y="5284440"/>
                <a:chExt cx="682560" cy="5040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7120440" y="5284440"/>
                  <a:ext cx="682560" cy="432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7122240" y="5334840"/>
                  <a:ext cx="680400" cy="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" name=""/>
              <p:cNvGrpSpPr/>
              <p:nvPr/>
            </p:nvGrpSpPr>
            <p:grpSpPr>
              <a:xfrm>
                <a:off x="7120440" y="5503680"/>
                <a:ext cx="682560" cy="50400"/>
                <a:chOff x="7120440" y="5503680"/>
                <a:chExt cx="682560" cy="5040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7120440" y="5503680"/>
                  <a:ext cx="682560" cy="432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7122240" y="5554080"/>
                  <a:ext cx="680400" cy="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 rot="10800000">
                <a:off x="7809480" y="4827600"/>
                <a:ext cx="330840" cy="1060920"/>
              </a:xfrm>
              <a:prstGeom prst="rect">
                <a:avLst/>
              </a:prstGeom>
              <a:gradFill rotWithShape="0">
                <a:gsLst>
                  <a:gs pos="0">
                    <a:srgbClr val="3399ff"/>
                  </a:gs>
                  <a:gs pos="100000">
                    <a:srgbClr val="194b7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3d1f0"/>
                    </a:solidFill>
                    <a:latin typeface="Arial"/>
                  </a:rPr>
                  <a:t>Device 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5" name=""/>
              <p:cNvGrpSpPr/>
              <p:nvPr/>
            </p:nvGrpSpPr>
            <p:grpSpPr>
              <a:xfrm>
                <a:off x="8185680" y="4785120"/>
                <a:ext cx="218520" cy="1061640"/>
                <a:chOff x="8185680" y="4785120"/>
                <a:chExt cx="218520" cy="1061640"/>
              </a:xfrm>
            </p:grpSpPr>
            <p:grpSp>
              <p:nvGrpSpPr>
                <p:cNvPr id="246" name=""/>
                <p:cNvGrpSpPr/>
                <p:nvPr/>
              </p:nvGrpSpPr>
              <p:grpSpPr>
                <a:xfrm>
                  <a:off x="8185680" y="4785120"/>
                  <a:ext cx="218520" cy="269280"/>
                  <a:chOff x="8185680" y="4785120"/>
                  <a:chExt cx="218520" cy="269280"/>
                </a:xfrm>
              </p:grpSpPr>
              <p:sp>
                <p:nvSpPr>
                  <p:cNvPr id="247" name=""/>
                  <p:cNvSpPr/>
                  <p:nvPr/>
                </p:nvSpPr>
                <p:spPr>
                  <a:xfrm flipV="1">
                    <a:off x="8404200" y="4785120"/>
                    <a:ext cx="0" cy="269280"/>
                  </a:xfrm>
                  <a:prstGeom prst="line">
                    <a:avLst/>
                  </a:prstGeom>
                  <a:ln w="76320">
                    <a:solidFill>
                      <a:srgbClr val="ff99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 flipH="1">
                    <a:off x="8185680" y="5033880"/>
                    <a:ext cx="218520" cy="0"/>
                  </a:xfrm>
                  <a:prstGeom prst="line">
                    <a:avLst/>
                  </a:prstGeom>
                  <a:ln w="7632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9" name=""/>
                <p:cNvGrpSpPr/>
                <p:nvPr/>
              </p:nvGrpSpPr>
              <p:grpSpPr>
                <a:xfrm>
                  <a:off x="8186760" y="5586120"/>
                  <a:ext cx="217440" cy="260640"/>
                  <a:chOff x="8186760" y="5586120"/>
                  <a:chExt cx="217440" cy="260640"/>
                </a:xfrm>
              </p:grpSpPr>
              <p:sp>
                <p:nvSpPr>
                  <p:cNvPr id="250" name=""/>
                  <p:cNvSpPr/>
                  <p:nvPr/>
                </p:nvSpPr>
                <p:spPr>
                  <a:xfrm>
                    <a:off x="8404200" y="5586120"/>
                    <a:ext cx="0" cy="260640"/>
                  </a:xfrm>
                  <a:prstGeom prst="line">
                    <a:avLst/>
                  </a:prstGeom>
                  <a:ln w="76320">
                    <a:solidFill>
                      <a:srgbClr val="ff99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 flipH="1">
                    <a:off x="8186760" y="5605920"/>
                    <a:ext cx="217440" cy="0"/>
                  </a:xfrm>
                  <a:prstGeom prst="line">
                    <a:avLst/>
                  </a:prstGeom>
                  <a:ln w="7632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Lucida Grande"/>
              </a:rPr>
              <a:t>PCI Express Architecture</a:t>
            </a:r>
            <a:endParaRPr b="1" lang="en-US" sz="32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53" name=""/>
          <p:cNvSpPr/>
          <p:nvPr/>
        </p:nvSpPr>
        <p:spPr>
          <a:xfrm>
            <a:off x="4539240" y="-720"/>
            <a:ext cx="458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usit.uio.no/it/lita/itkonferanse-2004/ foiler/UIO_Seminar_dell.pp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Virtual Channel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55" name=""/>
          <p:cNvSpPr/>
          <p:nvPr/>
        </p:nvSpPr>
        <p:spPr>
          <a:xfrm>
            <a:off x="3186000" y="-720"/>
            <a:ext cx="5996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ttp://www.pcisig.com/specifications/pciexpress/technical_library/dev_con_09_02/specifications/pciexpress/PCIExpress_ArchOverview.pd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70160" y="1874880"/>
            <a:ext cx="6402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Use of Multiple Lane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58" name=""/>
          <p:cNvSpPr/>
          <p:nvPr/>
        </p:nvSpPr>
        <p:spPr>
          <a:xfrm>
            <a:off x="3186000" y="-720"/>
            <a:ext cx="5996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ttp://www.pcisig.com/specifications/pciexpress/technical_library/dev_con_09_02/specifications/pciexpress/PCIExpress_ArchOverview.pd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292400" y="1874880"/>
            <a:ext cx="65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Layered Protocol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61" name=""/>
          <p:cNvSpPr/>
          <p:nvPr/>
        </p:nvSpPr>
        <p:spPr>
          <a:xfrm>
            <a:off x="3186000" y="-720"/>
            <a:ext cx="5996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ttp://www.pcisig.com/specifications/pciexpress/technical_library/dev_con_09_02/specifications/pciexpress/PCIExpress_ArchOverview.pd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380960" y="1874880"/>
            <a:ext cx="6382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Packet Formation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64" name=""/>
          <p:cNvSpPr/>
          <p:nvPr/>
        </p:nvSpPr>
        <p:spPr>
          <a:xfrm>
            <a:off x="3186000" y="-720"/>
            <a:ext cx="5996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ttp://www.pcisig.com/specifications/pciexpress/technical_library/dev_con_09_02/specifications/pciexpress/PCIExpress_ArchOverview.pd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380960" y="1874880"/>
            <a:ext cx="6382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reating Transaction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The Software Layers create a request which the Transaction Layer turns into a packet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The Link Layer adds sequence information and CRC (Cyclic Redundancy Check) to the packet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The physical layer is manifested as two twisted-pairs, one for transmittal and one for reception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Transaction Protocol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69" name=""/>
          <p:cNvSpPr/>
          <p:nvPr/>
        </p:nvSpPr>
        <p:spPr>
          <a:xfrm>
            <a:off x="3186000" y="-720"/>
            <a:ext cx="5996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ttp://www.pcisig.com/specifications/pciexpress/technical_library/dev_con_09_02/specifications/pciexpress/PCIExpress_ArchOverview.pd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1244520" y="1874880"/>
            <a:ext cx="6653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Lecture 8 Concept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PCI Expres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90840" indent="-26568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History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90840" indent="-26568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How is it the same as “traditional” PCI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90840" indent="-26568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How is it different than “traditional” PCI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90840" indent="-26568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How does it work in general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1009440" indent="-212400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ransactions, bus synchronization, bus arbitration, etc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Packet Header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72" name=""/>
          <p:cNvSpPr/>
          <p:nvPr/>
        </p:nvSpPr>
        <p:spPr>
          <a:xfrm>
            <a:off x="3186000" y="-720"/>
            <a:ext cx="5996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ttp://www.pcisig.com/specifications/pciexpress/technical_library/dev_con_09_02/specifications/pciexpress/PCIExpress_ArchOverview.pd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1328760" y="1874880"/>
            <a:ext cx="6486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Signalling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75" name=""/>
          <p:cNvSpPr/>
          <p:nvPr/>
        </p:nvSpPr>
        <p:spPr>
          <a:xfrm>
            <a:off x="3186000" y="29520"/>
            <a:ext cx="5996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ttp://www.pcisig.com/specifications/pciexpress/technical_library/dev_con_09_02/specifications/pciexpress/PCIExpress_ArchOverview.pd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292400" y="1874880"/>
            <a:ext cx="65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Embedded Clocking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78" name=""/>
          <p:cNvSpPr/>
          <p:nvPr/>
        </p:nvSpPr>
        <p:spPr>
          <a:xfrm>
            <a:off x="3186000" y="29520"/>
            <a:ext cx="5996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ttp://www.pcisig.com/specifications/pciexpress/technical_library/dev_con_09_02/specifications/pciexpress/PCIExpress_ArchOverview.pd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397160" y="1874880"/>
            <a:ext cx="6349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omparing PCI and PCI-Expres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What’s the same?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The software interface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till synchronous, though PCI-E clock is embedded into transmission via 8b/10b encoding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What’s different?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Pretty much everything else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rom parallel multi-drop bus to serial point-to-point protocol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No arbitration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Much higher data transfer rate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Variable connection widths. 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Intel’s Comparison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841400" y="1874880"/>
            <a:ext cx="5459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Low-Voltage Differential Signaling (LVDS)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VDS uses high-speed analog circuit techniques to provide multigigabit data transfers on copper interconnects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generic interface standard for high-speed data transmission. 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erican National Standards Institute (ANSI)/Telecommunications Industry Association (TIA)/Electronic Industries Alliance (EIA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4-1995 standard specifies the physical layer as an electronic interface.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standard defines driver and receiver electrical characteristics only. It do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protocol, interconnect, or connector details because these details are application-specific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The Bad Old Day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onsider RS-232: voltage swings of as much as 24 volts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Takes a lot of time!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We’ve tried lots of things like LVTTL (Low-Voltage Transistor-to-Transistor Logic), Gunning Transistor Logic (GTL) and Stub Series Terminated Logic (SSTL) to reduce power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LVDS reduces it even further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What is Differential Signaling?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irst, consider a seesaw: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one person goes up, the other goes down, but their average position remains the same.  More importantly, thei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la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sition remains the same. 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ositive value may be represented by the left person being higher than the one on the right, while a negative value is represented by the right person being higher. Zero is represented when the two people are level with each other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1371600" y="4343400"/>
            <a:ext cx="6248520" cy="18097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3978000" y="6640560"/>
            <a:ext cx="462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www.latticesemi.com/lit/docs/appnotes/pac/an6019.pdf?jsessionid=ba30ce0b2130$3F$3F$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Off the Playground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Real Differential Signaling looks like this: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1752480" y="2895480"/>
            <a:ext cx="533412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Differential Signaling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Differential signaling uses two conductor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660960" indent="-254160"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The transmitter translates the single input signal into a pair of outputs that are driven 180° out of phase.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660960" indent="-254160"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The receiver, a differential (or subtracting) amplifier, recovers the signal as the difference in the voltages on the two lines.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05280" indent="-30528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Advantages of differential  signaling can be summed up as follow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660960" indent="-254160"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Differential Signaling is not sensitive to most noise.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660960" indent="-254160"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A differential receiver is tolerant of its ground moving around.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660960" indent="-254160"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If each “wire” of pair is on close proximity of one and other. electromagnetic interference imposes the same voltage on both signals. The difference cancels out the effect.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660960" indent="-254160"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Since the AC currents in the “wires” are equal but opposite and proximal, radiated EMI is reduced.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PCI Expres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By April 2002, the PCI-SIG and Arapahoe Work Group finished the 3GIO draft specification, formally renaming it "PCI Express". 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A Point-to-point bus interface under development by the PCI SIG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Bidirectional sequential serial interconnect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Higher quality of service, bandwidth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Co-exists w/ PCI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PCI Express –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inside chassi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Infiniband -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Outside chassi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648320" y="2697120"/>
            <a:ext cx="40384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What LVDS Gives U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Differential signals are immune to common-mode noise. 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A voltage change between logic states of only 300 mV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So LVDS can change states very fast. 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An LVDS signal also changes voltage levels without a fast </a:t>
            </a:r>
            <a:r>
              <a:rPr b="0" i="1" lang="en-US" sz="2000" spc="-1" strike="noStrike">
                <a:solidFill>
                  <a:srgbClr val="000000"/>
                </a:solidFill>
                <a:latin typeface="Lucida Grande"/>
              </a:rPr>
              <a:t>slew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Lucida Grande"/>
              </a:rPr>
              <a:t>rate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The slew rate refers to how fast an amplifier reacts to changes in inputs.  Normally, a higher slew rate is better.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or LVDS, however, slower transitions reduce the problem of reflections from transmission-path impedance discontinuities, decreasing emissions and crosstalk problems. 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Low-voltage swing reduces power consumption because it lowers the voltage across the termination resistors and lowers the overall power dissipation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Intel claims that PCI-E (and others) really use </a:t>
            </a:r>
            <a:r>
              <a:rPr b="0" i="1" lang="en-US" sz="2000" spc="-1" strike="noStrike">
                <a:solidFill>
                  <a:srgbClr val="000000"/>
                </a:solidFill>
                <a:latin typeface="Lucida Grande"/>
              </a:rPr>
              <a:t>Current Mode Logic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, but the basic point remains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PCI 2.0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2.0 specification doubles the interconnect bit rate from 2.5 Gbs to 5 Gbs.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22"/>
                </a:solidFill>
                <a:latin typeface="Arial"/>
              </a:rPr>
              <a:t>16-lane link bandwidth to approximately 16 GB/s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Dynamic link speed management to control the speed at which the link is operating 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Link bandwidth notification to notify software (operating system, device drivers, etc) of changes in link speed and width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Capability structure expansion to expand the control registers to better manage devices, slots and the interconnect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Access control services optional controls to manage peer-peer transaction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Completion timeout control to define a required disable mechanism plus related optional enhancement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Function-level reset, an optional mechanism to reset functions within a device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Power limit redefinition to redefine slot power limit values to accommodate devices that consume higher power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PCI-E 2.0 Devices Availabl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NVIDIA nForce 750i SLI Motherboar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vailable at Amazon since January 17, 2008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NVIDIA GeForce 8800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First PCI 2.0 video card, available since October 2007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MD 7-Series Chipset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upports 42 PCI-E 2.0 lane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nd probably lots more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13900" t="35151" r="13852" b="39356"/>
          <a:stretch/>
        </p:blipFill>
        <p:spPr>
          <a:xfrm>
            <a:off x="6553080" y="5791320"/>
            <a:ext cx="1905120" cy="67284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rcRect l="4880" t="4876" r="4880" b="4998"/>
          <a:stretch/>
        </p:blipFill>
        <p:spPr>
          <a:xfrm>
            <a:off x="6934320" y="4495680"/>
            <a:ext cx="121896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PCI X.0?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tomic Memory Operation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Fetch-and-Add, Swap, Compare-and-Swap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Non-trivial for a point-to-point protocol!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Internal Error Reporting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Just for PCI-E protocol thing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Opaque Transaction Hin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Here’s how you can optimize this data when you get it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Dynamic Power Allocatio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Don’t need the power?  Fine.  I won’t send it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Lecture 9 Summary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PCI Express is a great example of the transition from parallel to to high-speed serial busses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ere’s very little in common between PCI and PCI Express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LVDS is a big deal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Remember, P = V</a:t>
            </a:r>
            <a:r>
              <a:rPr b="0" lang="en-US" sz="2800" spc="-1" strike="noStrike" baseline="30000">
                <a:solidFill>
                  <a:srgbClr val="000000"/>
                </a:solidFill>
                <a:latin typeface="Lucida Grande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/R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PCI SIG Goal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2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upports multiple market segments and emerging applications</a:t>
            </a:r>
            <a:endParaRPr b="0" lang="en-US" sz="17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-274320">
              <a:lnSpc>
                <a:spcPct val="90000"/>
              </a:lnSpc>
              <a:spcBef>
                <a:spcPts val="374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nifying I/O Architecture for Desktop, Mobile, Server, Communications Platforms, Workstations and Embedded Devices.</a:t>
            </a:r>
            <a:endParaRPr b="0" lang="en-US" sz="15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lnSpc>
                <a:spcPct val="90000"/>
              </a:lnSpc>
              <a:spcBef>
                <a:spcPts val="42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ow cost and high volume</a:t>
            </a:r>
            <a:endParaRPr b="0" lang="en-US" sz="17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-274320">
              <a:lnSpc>
                <a:spcPct val="90000"/>
              </a:lnSpc>
              <a:spcBef>
                <a:spcPts val="374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st at or below PCI cost structure at the system level </a:t>
            </a:r>
            <a:endParaRPr b="0" lang="en-US" sz="15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lnSpc>
                <a:spcPct val="90000"/>
              </a:lnSpc>
              <a:spcBef>
                <a:spcPts val="42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CI Compatible software model </a:t>
            </a:r>
            <a:endParaRPr b="0" lang="en-US" sz="17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-274320">
              <a:lnSpc>
                <a:spcPct val="90000"/>
              </a:lnSpc>
              <a:spcBef>
                <a:spcPts val="374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oot existing operating systems without any change. PCI compatible configuration and device driver interfaces. </a:t>
            </a:r>
            <a:endParaRPr b="0" lang="en-US" sz="15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lnSpc>
                <a:spcPct val="90000"/>
              </a:lnSpc>
              <a:spcBef>
                <a:spcPts val="42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erformance </a:t>
            </a:r>
            <a:endParaRPr b="0" lang="en-US" sz="17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-274320">
              <a:lnSpc>
                <a:spcPct val="90000"/>
              </a:lnSpc>
              <a:spcBef>
                <a:spcPts val="374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calable performance via frequency and additional lanes.  High Bandwidth per Pin. Low overhead. Low latency.</a:t>
            </a:r>
            <a:endParaRPr b="0" lang="en-US" sz="15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lnSpc>
                <a:spcPct val="90000"/>
              </a:lnSpc>
              <a:spcBef>
                <a:spcPts val="42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upport multiple  platform connection types: </a:t>
            </a:r>
            <a:endParaRPr b="0" lang="en-US" sz="17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-274320">
              <a:lnSpc>
                <a:spcPct val="90000"/>
              </a:lnSpc>
              <a:spcBef>
                <a:spcPts val="374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hip-to-chip, board-to-board via connector, docking station and enable new form factors. </a:t>
            </a:r>
            <a:endParaRPr b="0" lang="en-US" sz="15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lnSpc>
                <a:spcPct val="90000"/>
              </a:lnSpc>
              <a:spcBef>
                <a:spcPts val="42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dvanced features</a:t>
            </a:r>
            <a:endParaRPr b="0" lang="en-US" sz="17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-274320">
              <a:lnSpc>
                <a:spcPct val="90000"/>
              </a:lnSpc>
              <a:spcBef>
                <a:spcPts val="374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mprehend different data types. Power Management. Quality Of Service. Hot Plug and Hot Swap support. Data Integrity and Error Handling. Extensible. Base mechanisms to enable Embedded and Communications applications. </a:t>
            </a:r>
            <a:endParaRPr b="0" lang="en-US" sz="15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PCI Express Design motivation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AGP was NOT very scalable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Architected for a single graphics slot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Scaled frequency over the bus life-cycle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4" marL="17715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PCI Express planned for scalability 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Scalable bus widths : x1, x2, x4, x8, x16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Port Splitting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Down-shifting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Frequency scaling:  2.5GHz (Gen1), 5GHz (Gen2) 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General purpose bus means multiple slots available for scaling performance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SLI – multiple graphics card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464600" y="1886040"/>
            <a:ext cx="1304640" cy="4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PCI Expres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270080" y="1874880"/>
            <a:ext cx="6602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Slot Form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93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Slots can co-exist on the same board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Not compatible with any other form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Not using the same case slot (ISA / PCI)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646440" y="1874880"/>
            <a:ext cx="4770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PCI Express Mechanical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81240" y="1874880"/>
            <a:ext cx="6580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PCI Express Connector Pinou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45760" y="5089320"/>
            <a:ext cx="734076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Extensible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Large Fraction of pins for Ground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Differential Signaling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57200" y="1816200"/>
            <a:ext cx="3551400" cy="32018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773680" y="1819440"/>
            <a:ext cx="2789280" cy="15984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5789520" y="3406680"/>
            <a:ext cx="2765520" cy="20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8:40:02Z</dcterms:created>
  <dc:creator>Christopher Cischke</dc:creator>
  <dc:description/>
  <dc:language>en-US</dc:language>
  <cp:lastModifiedBy>Christopher Cischke</cp:lastModifiedBy>
  <dcterms:modified xsi:type="dcterms:W3CDTF">2008-02-28T16:45:58Z</dcterms:modified>
  <cp:revision>9</cp:revision>
  <dc:subject/>
  <dc:title>PCI Express</dc:title>
</cp:coreProperties>
</file>