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84C-26AA-4C6C-B578-EC9D0E80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B9D-3ED2-4E7B-B29D-6D9C9C72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470-706A-4E19-BCF9-1CBB2F3E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21F-DA04-4CDE-9D7D-83E578F6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1088-962A-4C31-910C-68EEC45D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E202-6B63-4D8A-B9A0-A6EE311C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178A-EA0D-4EE1-9ADE-70A6C3E2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D831-1440-44C2-911C-5F8F5B22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A069-45D8-47A0-B4CF-6A1351A2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A00B-7084-4F11-96B8-C13B369E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ED1B-78B6-42D1-A3C7-895C8DF8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C64-269D-4F28-AD0A-F348B4D7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F8FB-A485-4C37-B031-74A162D8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A850-9B44-4564-A017-FACBDCB6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F4DC-D85A-4749-A662-046648B1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1896-8E0E-4CE6-86D0-022A83B4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9ED8-745C-4D12-AC27-08BB9259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AC2-14C8-49F0-AABB-72F4796D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23E-E415-44B1-8CF1-3C953380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CF2-27B9-4DCE-9546-EE9369E6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CE5-C3FB-4D7B-A76E-AD316940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E6A-E4CD-4278-B452-2142B5A4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098-7DAB-42FB-B88C-5C1A1D61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BCB-94AE-48C6-B00C-C37A870B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198A-A2B0-4A0D-B26F-CE5B0B0EC3A3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62F1-1A77-460D-9BF8-42AB6D768CC4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E 3173 Lecture 7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Verilog Refresh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l the Stuff You Should Have Learned in EE 2171 if We Actually Had Enough Time to Teach it to You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stanti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odule name,</a:t>
            </a: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ollowed by a unique instance name and a port map phras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lladd stage0 (carryin,x0,y0,s0,c1)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ort map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onnects signals from here to ther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ame module may be instantiated more than once, but with a unique instance nam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module doing the instantiation must know what the definition of the module i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ectored Signa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Verilog provid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vectors</a:t>
            </a:r>
            <a:r>
              <a:rPr b="0" i="1" lang="en-US" sz="3200" spc="-1" strike="noStrike">
                <a:solidFill>
                  <a:srgbClr val="000000"/>
                </a:solidFill>
                <a:latin typeface="Lucida Grande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ich allow us to define signals of arbitrary width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put [3:0] X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X is a 4-bit wide sig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</a:t>
            </a:r>
            <a:r>
              <a:rPr b="1" lang="en-US" sz="4400" spc="-1" strike="noStrike">
                <a:solidFill>
                  <a:srgbClr val="1822cd"/>
                </a:solidFill>
                <a:latin typeface="Courier New"/>
              </a:rPr>
              <a:t>wire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 Data Typ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or internal connections with no connection to an input or output port, we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ire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data typ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n’t let the word “wire” throw you off.  This is not just a conductor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n drive loads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ire [3:1] C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 3-bit wide internal sign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</a:t>
            </a:r>
            <a:r>
              <a:rPr b="1" lang="en-US" sz="4400" spc="-1" strike="noStrike">
                <a:solidFill>
                  <a:srgbClr val="1822cd"/>
                </a:solidFill>
                <a:latin typeface="Courier New"/>
              </a:rPr>
              <a:t>parameter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 Keywor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keyword is like a #define in C/C++.  It lets you define a constant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rameter n = 4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ire [n-1:0] W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 is then a 4-bit wide signal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ome design houses don’t use thi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Verilog </a:t>
            </a:r>
            <a:r>
              <a:rPr b="1" lang="en-US" sz="4400" spc="-1" strike="noStrike">
                <a:solidFill>
                  <a:srgbClr val="1822cd"/>
                </a:solidFill>
                <a:latin typeface="Courier New"/>
              </a:rPr>
              <a:t>for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 Statemen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Verilo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is almost identical to a C/C++/Java for except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e unary ++ and -- operators don’t exist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erefore, you must do something lik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 = k + 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an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}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are replaced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, respectively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i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statement,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can only exist in the sequenti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bloc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utting It All Togeth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419200"/>
            <a:ext cx="82296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ifferent Net Typ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e have talked about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ire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other net i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i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i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wires support the Z logical valu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e careful with these, as they may not be synthesizabl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umber Representation in Verilo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&lt;bits&gt;’&lt;radix&gt;&lt;digits&gt;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4’b1101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12’o7734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12’hBA9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at You’ll </a:t>
            </a:r>
            <a:r>
              <a:rPr b="1" i="1" lang="en-US" sz="4400" spc="-1" strike="noStrike">
                <a:solidFill>
                  <a:srgbClr val="1822cd"/>
                </a:solidFill>
                <a:latin typeface="Lucida Grande"/>
              </a:rPr>
              <a:t>Really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 Do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313000"/>
            <a:ext cx="82296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Conditional Operato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so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ternary operat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ditional ? true_expr : false_exp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= (B &lt; C) ? (A + 5) : (A + 2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n’t use this thing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riously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ncep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 Brief History of Verilo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asic Verilog Synta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Verilog Design Styl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ore Advanced Synta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Case Statemen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expression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lt1: stuff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lt2: stuff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… etc. 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default: stuff;]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ase Examp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31760" y="1874880"/>
            <a:ext cx="7080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mplementing an ALU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31760" y="1874880"/>
            <a:ext cx="7080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asex and Casez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lows you to include the “x” and “z” logic values in your case statement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</a:t>
            </a:r>
            <a:r>
              <a:rPr b="1" lang="en-US" sz="4400" spc="-1" strike="noStrike">
                <a:solidFill>
                  <a:srgbClr val="1822cd"/>
                </a:solidFill>
                <a:latin typeface="Courier New"/>
              </a:rPr>
              <a:t>generate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 Construc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lows “on-the-fly” sub-circuit generation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nly included in Verilog-2001 standard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eware! Many tools do not yet support thi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asks and Func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oth act like methods in Jav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low you to create some block of code that gets called an arbitrary number of time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Key Differenc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 function shall execute in one simulation time unit; A task can contain time-controlling statements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 function cannot enable a task; a task can enable other tasks or functions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 function shall have at least one input type argument and shall not hav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type argument; A task can have zero or more arguments of any type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 function shall return a single value; A task shall not return a value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9 Summa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Verilog syntax is basically like C, with some small exception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xecution of Verilog code is not strictly linear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You should make a point of being most comfortable with the behavioral coding style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erilo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ne of a class of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hardware description languages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eveloped in 1984 with a C-like syntax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ow IEEE 1364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Verilog95 and Verilog0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ternative is the DoD-approved VHD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other newer challenger: System C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uture development under the auspices of Aceller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Key Concept: Execution is not strictly linear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eally Simple Verilog 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ample1(x1, x2, x3, f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1, x2, x3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f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g, x1, x2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k, x2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h, k, x3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, g, h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odule Example1 Unpacke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mplements fun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f = (x1 • x2) + (~x2 • x3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s a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structural specific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tructural design is easier, but more time consuming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s not really appropriate for large design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ote that we need intermediate values to “force” sequential execution. 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ehavioral Specific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is is more common, especially for larger design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is specific style is called dataflow modeling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ample3(x1, x2, x3, f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x1, x2, x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f;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f = (x1 &amp; x2) | (~x2 &amp; x3);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dding a Level of Abstrac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example5(x1, x2, x3, f)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x1, x2, x3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f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g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f;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lways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@(x1 or x2 or x3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(x2 == 1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 = x1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 = x3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 Few Detai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ngle line: //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ulti-line: /* … */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pl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, respective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de in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block is executed sequentially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Verilog compilers are not nic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heck out my little experimental tex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nother Verilog Add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Lucida Grande"/>
              </a:rPr>
              <a:t>Dataflow Modeling (Continuous Assignment)</a:t>
            </a:r>
            <a:endParaRPr b="0" lang="en-US" sz="33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fulladd(Cin, x, y, s, Cout);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Cin, x, y;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Cout, s;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s = x ^ y ^ Cin;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Cout (x&amp;y) | (x &amp; Cin) |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(y&amp;Cin);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2:56:52Z</dcterms:created>
  <dc:creator>Christopher Cischke</dc:creator>
  <dc:description/>
  <dc:language>en-US</dc:language>
  <cp:lastModifiedBy>Christopher Cischke</cp:lastModifiedBy>
  <dcterms:modified xsi:type="dcterms:W3CDTF">2008-02-13T19:00:07Z</dcterms:modified>
  <cp:revision>9</cp:revision>
  <dc:subject/>
  <dc:title>PowerPoint Presentation</dc:title>
</cp:coreProperties>
</file>