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11.png" ContentType="image/png"/>
  <Override PartName="/ppt/media/image6.png" ContentType="image/png"/>
  <Override PartName="/ppt/media/image3.pct" ContentType="image/x-pict"/>
  <Override PartName="/ppt/media/image25.pct" ContentType="image/x-pict"/>
  <Override PartName="/ppt/media/image1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3FE-F722-48B7-A2E2-C26F7419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FB38-CE57-415B-87E3-39409F02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2449-072D-4868-BCC8-1EE613AA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F4CB-70B1-42B5-987F-D014006E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4503-82A0-410C-9E8E-F0DB7868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17B9-FE98-4051-9B34-7BF8FCB4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14B2-7270-4D44-A52A-EB72719F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9E10-A89F-4B5D-8877-F591DEE3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DAD2-E224-4EAF-A94A-2A79E992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0DD2-D16C-4EB7-9DC5-34D3FAAD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E811-2FDA-4EDC-822D-06913DA6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9574-1B99-4F42-8CA5-D3AB722F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0FF0-6259-4E73-9C74-3F3F8681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D272-C5DE-403D-BA8C-5156E2C8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4E79-E025-42D2-B613-F8AFCECF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7069-1601-4E52-93E7-42B46846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8838-421A-4AF4-970C-48F5628E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C901-F113-4530-91E1-FD418CDE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FF1D-F372-42ED-AE7C-F37C5A10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8E97-5A79-462D-8137-2C822247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840E-2F86-44CE-B914-B7CA7E90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C8D-8503-45F7-8640-ACFD3289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5E4C-0063-41CC-B685-A0E32E1F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B9FC-2FFD-4897-9FBD-551164D3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4740-25BD-4D3C-90F6-80A1360341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65C8-E84C-4954-845B-03809B68D30C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B9EF-FE44-4435-98EF-C300C8C2779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1114-F774-41E0-9D5C-169CE9F8EA37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ltera.com/support/examples/nios2/exm-nios2.html#note" TargetMode="External"/><Relationship Id="rId2" Type="http://schemas.openxmlformats.org/officeDocument/2006/relationships/hyperlink" Target="http://www.altera.com/support/examples/nios2/exm-nios2.html#note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0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top500.org/" TargetMode="External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E 3173 Lecture 2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Nios II Architectu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6C07-8E37-4473-977C-E8109D4730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Open Core Issu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A possible licensing issue in the lab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08520" indent="-30852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Altera has many licensing levels for the Nios II IP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08520" indent="-30852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Open Core is (I believe) allowed use of Altera IP in which they maintain control &amp; do not allow arbitrary user usage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0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08520" indent="-30852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LM_LICENSE file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With the proper file, we have the ability to use, download &amp; modify the SOPC builder generated fil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t appears with the current license we can only keep the FPGA operating with a process on the CPU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We hope to have this resolved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F313-F81F-40DF-8F0E-B7762E3F98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JTA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2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Lucida Grande"/>
              </a:rPr>
              <a:t>J</a:t>
            </a: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oint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Lucida Grande"/>
              </a:rPr>
              <a:t>T</a:t>
            </a: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est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Lucida Grande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ction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Lucida Grande"/>
              </a:rPr>
              <a:t>G</a:t>
            </a: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roup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42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IEEE 1149.1 standard entitled “Standard Test Access Port and Boundary-Scan Architecture for test access ports”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42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Originally used for testing printed circuit boards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42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4 or 5 pin interface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3" marL="1357200" indent="-217080">
              <a:spcBef>
                <a:spcPts val="24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TDI (Test Data In) </a:t>
            </a: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 lvl="3" marL="1357200" indent="-217080">
              <a:spcBef>
                <a:spcPts val="24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TDO (Test Data Out) </a:t>
            </a: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 lvl="3" marL="1357200" indent="-217080">
              <a:spcBef>
                <a:spcPts val="24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TCK (Test Clock) </a:t>
            </a: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 lvl="3" marL="1357200" indent="-217080">
              <a:spcBef>
                <a:spcPts val="24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TMS (Test Mode Select) </a:t>
            </a: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 lvl="3" marL="1357200" indent="-217080">
              <a:spcBef>
                <a:spcPts val="24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TRST (Test Reset) optional. </a:t>
            </a: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42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Designed so that one or more chips can have their state space scanned in &amp; out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37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Grande"/>
              </a:rPr>
              <a:t>Used to initialize machine state on Altera Cyclone board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37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Grande"/>
              </a:rPr>
              <a:t>Also can be used to scan out state for debug purposes.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37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Lucida Grande"/>
              </a:rPr>
              <a:t>chips on a board 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42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Cyclone board HAS JTAG support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42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JTAG support CAN optionally be generated into a Nios II design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C06D-7CFA-436B-A44A-D729412CE7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Nios II Processor Implement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 functional units of the Nios II architecture form the foundation for the Nios II instruction set. However, this does not indicate that any unit is implemented in hardware. </a:t>
            </a: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The Nios II architecture describes an instruction set, not a particular hardware implementation.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A functional unit can be implemented in hardware, emulated in software, or omitted entirely” – Nios II Processor Reference Handbook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FE78-1145-4D1D-971F-FFE7D9D61D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Nios II Implement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The Nios II is an Architecture,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whereas the Nios II/e or Nios II/f is an organization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Altera provides multiple cores for different design objectives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What is a functional unit?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Adder, branch unit, multiply, load/store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Can you think of multiple ways to do these?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s there a cost (gates), speed, simplicity tradeoff?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42C-7E6F-40F4-B4C5-7B7B605281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Nios II Block Diagram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35000" y="1874880"/>
            <a:ext cx="70722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88FA-CE3A-4A7B-97FB-6C46E644F3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Nios Core Characteristic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8748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DMIPS – Dhrystone MIPS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Embedded systems benchmark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Meaningless Indicator of Processor Speed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The Cyclone EP1C20 will not run @ the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Lucida Grande"/>
              </a:rPr>
              <a:t>MAX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 frequencies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Range of features over the range of organizations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E77D-2E23-4104-B9C4-D33B68C568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ore Core Characteristic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89240" y="1874880"/>
            <a:ext cx="45640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B5D-8CF3-41C3-9F36-9A3F4F6C48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ultiple-layer Flexible Desig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The Nios ISA is fixed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Sorta.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Nios II core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The processor organization/implementation is flexible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Varied area, pipeline stages, cache, CPI, performance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Altera has provided three Processor organizations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/f, /s &amp; /e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Not advised for user modification – but it is possible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Hardware Design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Includes the peripherals &amp; on-chip interconnect – buses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UARTs, SPI, PIO, timer, JTAG &amp; memories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Altera has provided five hardware designs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Standard, Full-Featured, Fast, Small, Low-Cost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nd you have built one design – from the Tutorial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Advised for user level system design – starting points provided by Altera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B890-4E81-41C9-80B3-743AF6FC54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Hardware Design Examples Specification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874880"/>
          <a:ext cx="8229240" cy="4371480"/>
        </p:xfrm>
        <a:graphic>
          <a:graphicData uri="http://schemas.openxmlformats.org/drawingml/2006/table">
            <a:tbl>
              <a:tblPr/>
              <a:tblGrid>
                <a:gridCol w="1243440"/>
                <a:gridCol w="1158120"/>
                <a:gridCol w="1701720"/>
                <a:gridCol w="788760"/>
                <a:gridCol w="2102040"/>
                <a:gridCol w="1235160"/>
              </a:tblGrid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ec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nda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ull-Featu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m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w-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86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ard Sup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atix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®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II, Stratix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atix Professional, Cyclone™ &amp; Cyclone II  Vers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atix II, Stratix, Stratix Professional, Cyclone &amp; Cyclone II Vers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atix II, Stratix &amp; Stratix Professional Vers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atix II, Stratix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atix Professional, Cyclone &amp; Cyclone 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yclone &amp; Cyclone II  Vers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os II 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os II /s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Kbytes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-c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os II /f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Kbytes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-cach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Kbytes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-cach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dware Multipl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os II /f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Kbytes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-cach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Kbytes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-c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dware Multipl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os II /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C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os II /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C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JTAG) Debug Mo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; Hardware Breakpoints; Trace Enabl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-Chip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 Kbytes </a:t>
                      </a:r>
                      <a:r>
                        <a:rPr b="0" lang="en-US" sz="900" spc="-1" strike="noStrike" u="sng">
                          <a:solidFill>
                            <a:srgbClr val="ff9218"/>
                          </a:solidFill>
                          <a:uFillTx/>
                          <a:latin typeface="Times New Roman"/>
                          <a:hlinkClick r:id="rId1"/>
                        </a:rPr>
                        <a:t>(1)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tratix Version Onl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 Kbytes </a:t>
                      </a:r>
                      <a:r>
                        <a:rPr b="0" lang="en-US" sz="900" spc="-1" strike="noStrike" u="sng">
                          <a:solidFill>
                            <a:srgbClr val="ff9218"/>
                          </a:solidFill>
                          <a:uFillTx/>
                          <a:latin typeface="Times New Roman"/>
                          <a:hlinkClick r:id="rId2"/>
                        </a:rPr>
                        <a:t>(1)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tratix Version Onl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 K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K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K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-Chip RAM Interfa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Mby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Mby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FI) Flash Interfa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M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M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4784-5550-4F1A-B47A-FDB4C9C00F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Symbol"/>
                <a:ea typeface="Symbol"/>
              </a:rPr>
              <a:t></a:t>
            </a: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roc Characteristic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ssues to consider when studying a new processo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lso a good outline for comparing two processor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1. What does the pipeline look like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2. What is the register structure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3. What data types are supported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4. What unusual or “interesting” instructions exist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5. What is the subroutine call/return sequence like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6. What are its memory management conventions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7. How are exceptions and interrupts handled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8. How does it support co-processors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1AB0-1FC7-4F10-9A87-82E1C3D856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ecture 2 Concep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ios II Architectur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asically, what are the defining features of the Nios II, its instruction set, its operation and design flow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redit: Most of these slides are borrowed from Dr. Brian Davis, who borrowed them from Dr. Kieckhafer, who probably borrowed them himself.  This is how college teaching goe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7B0C-72D1-431F-8494-389C583463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Symbol"/>
                <a:ea typeface="Symbol"/>
              </a:rPr>
              <a:t></a:t>
            </a: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roc Characteristic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Lucida Grande"/>
              </a:rPr>
              <a:t>1.</a:t>
            </a:r>
            <a:r>
              <a:rPr b="0" lang="en-US" sz="2500" spc="-1" strike="noStrike">
                <a:solidFill>
                  <a:srgbClr val="ff0000"/>
                </a:solidFill>
                <a:latin typeface="Lucida Grande"/>
              </a:rPr>
              <a:t>	</a:t>
            </a:r>
            <a:r>
              <a:rPr b="0" lang="en-US" sz="2500" spc="-1" strike="noStrike">
                <a:solidFill>
                  <a:srgbClr val="ff0000"/>
                </a:solidFill>
                <a:latin typeface="Lucida Grande"/>
              </a:rPr>
              <a:t>What does the pipeline look like?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2.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What is the register structure?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3.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What data types are supported?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4.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What unusual or “interesting” instructions exist?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5.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What is the subroutine call/return sequence like?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6.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What are its memory management conventions?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7.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How are exceptions and interrupts handled?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8.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How does it support co-processors?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838B-FB19-4E98-91B5-3EE5212433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Nios II Pipelin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832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What will be the consequences of # pipeline stages?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ncreased cos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Pipeline stage overhead -latche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Reduced period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Increased Frequency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982880"/>
            <a:ext cx="4038480" cy="1958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4451400"/>
            <a:ext cx="4038480" cy="17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606A-8D7A-4E4C-982F-7625DD3C04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ipelining in 1 slid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5208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ncreased # of stages allows reduced CPI – cycles per instructi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he goal is a CPI = 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Fixed length instruction (Fetch = 1 cycle)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A single Memory I/O per instruction (Memory cycle)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Limit the amount of computation per cycle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Reduced period (i.e. increased Frequency) with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Pipeline Hazar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Data, Control &amp; structural hazards result in CPI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uperscalar – put these things in parallel for CPI (theoretically) &lt; 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5" name=""/>
          <p:cNvSpPr/>
          <p:nvPr/>
        </p:nvSpPr>
        <p:spPr>
          <a:xfrm>
            <a:off x="3159000" y="1914480"/>
            <a:ext cx="533520" cy="30492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11440" y="1990800"/>
            <a:ext cx="1447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P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92520" y="1914480"/>
            <a:ext cx="533520" cy="30492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59200" y="1914480"/>
            <a:ext cx="533520" cy="30492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26040" y="1914480"/>
            <a:ext cx="533160" cy="30492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92720" y="1914480"/>
            <a:ext cx="533520" cy="30492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92520" y="2219400"/>
            <a:ext cx="533520" cy="3045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26040" y="2219400"/>
            <a:ext cx="533160" cy="3045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2219400"/>
            <a:ext cx="533520" cy="3045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59200" y="2219400"/>
            <a:ext cx="533520" cy="3045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26240" y="2219400"/>
            <a:ext cx="533160" cy="3045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26040" y="2523960"/>
            <a:ext cx="533160" cy="30492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59200" y="2523960"/>
            <a:ext cx="533520" cy="30492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26240" y="2523960"/>
            <a:ext cx="533160" cy="30492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92720" y="2523960"/>
            <a:ext cx="533520" cy="30492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59400" y="2523960"/>
            <a:ext cx="533520" cy="30492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2D59-C9C7-448C-B7CB-D979CCACB2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Nios II/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Basic, straightforward RISC architecture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Multiple cycles per instruction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Small &amp; inexpensive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But slllloooowwww…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2330280"/>
            <a:ext cx="4038480" cy="36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854B-DB1C-4BFF-A51E-CAB4351855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Symbol"/>
                <a:ea typeface="Symbol"/>
              </a:rPr>
              <a:t></a:t>
            </a: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roc Characteristic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1. What does the pipeline look like?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Lucida Grande"/>
              </a:rPr>
              <a:t>2. What is the register structure?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3. What data types are supported?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4. What unusual or “interesting” instructions exist?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5. What is the subroutine call/return sequence like?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6. What are its memory management conventions?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7. How are exceptions and interrupts handled?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8. How does it support co-processors?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2C6-16A5-4B4E-8D3B-5FC16D525D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Nios II Register Fi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32 general-purpose integer register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xed 32-bits apiece – same as instruction length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ully utilized 5-bit identifier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(6) control registers, 32-bit each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rchitecture supports supervisor and user modes that allow system code (i.e. Verilog) to protect the control registers from errant application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Nios II architecture allows for the future addition of floating point register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DC2E-550F-4334-B99C-59A64B4BE6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Register Function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rocedure calling conventio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ome architectur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Zero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SP, FP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Return Addr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ome by convention onl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Caller-saved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Argument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nterface between Compiler, Assembler &amp; ISA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48320" y="2081160"/>
            <a:ext cx="4038480" cy="411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72E6-EA9F-4BB5-A346-F8311B6787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Symbol"/>
                <a:ea typeface="Symbol"/>
              </a:rPr>
              <a:t></a:t>
            </a: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roc Characteristic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1. What does the pipeline look like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2. What is the register structure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Lucida Grande"/>
              </a:rPr>
              <a:t>3. What data types are supported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4. What unusual or “interesting” instructions exist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5. What is the subroutine call/return sequence like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6. What are its memory management conventions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7. How are exceptions and interrupts handled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8. How does it support co-processors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10FB-55F3-412F-A8AA-9CB7E4C945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Architectural Data Typ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ll 32-bit data typ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16-bit sign extended immediat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imited 64-bit support – multipl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gisters are set up for 64 bit suppor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(2) registers for return valu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airs for parameters &amp; caller sav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loating point – in the futur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B91-EA73-45EE-BADD-85798BC7395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anguage Data typ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4832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ios II language suppor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/C++ Application Binary Interfa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2397240"/>
            <a:ext cx="4038480" cy="34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F410-2B83-4289-B1A7-81F16FAF3E0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  <a:ea typeface="新細明體"/>
              </a:rPr>
              <a:t>The Target Platform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7800" y="6117840"/>
            <a:ext cx="815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新細明體"/>
              </a:rPr>
              <a:t>Altera Nios Development Kit – </a:t>
            </a:r>
            <a:r>
              <a:rPr b="1" i="1" lang="en-US" sz="2600" spc="-1" strike="noStrike">
                <a:solidFill>
                  <a:srgbClr val="ff3300"/>
                </a:solidFill>
                <a:latin typeface="Lucida Grande"/>
                <a:ea typeface="新細明體"/>
              </a:rPr>
              <a:t>Cyclone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新細明體"/>
              </a:rPr>
              <a:t> Editio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43200" y="1855800"/>
            <a:ext cx="50292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E5D4-B74D-49C5-A6CD-D24BC2BD9B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Symbol"/>
                <a:ea typeface="Symbol"/>
              </a:rPr>
              <a:t></a:t>
            </a: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roc Characteristic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1. What does the pipeline look like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2. What is the register structure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3. What data types are supported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Lucida Grande"/>
              </a:rPr>
              <a:t>4. What unusual or “interesting” instructions exist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5. What is the subroutine call/return sequence like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6. What are its memory management conventions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7. How are exceptions and interrupts handled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8. How does it support co-processors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2F6-C2F9-4B1D-B48E-2D3F60B3122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nstruction Forma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32-bit fixed-length instructions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RISC – fixed, few, reduced, consistent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6-bit opcode for all types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I-type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16 bit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Lucida Grande"/>
              </a:rPr>
              <a:t>I</a:t>
            </a: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mmediate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(2) 5-bit register identifiers A &amp; B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Arith/Logic, branch, load/store, cache management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R-type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(3) 5-bit register identifiers A, B &amp; C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11 bit opcode extension OPX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Arith/Logic, comparison, custom inst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J-type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26 bit immediate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Currently only CALL (i.e. long jump) </a:t>
            </a: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323-0ACE-4379-9864-73573D6C6D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nstruction Forma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4578480"/>
            <a:ext cx="8229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Consistent format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Few formats – MIP(5), 80x86(huge #)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Allows for fast operation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till allows a wide set of instruction categorie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42880" y="1806480"/>
            <a:ext cx="8153280" cy="897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36400" y="2685960"/>
            <a:ext cx="8166240" cy="793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533520" y="3454560"/>
            <a:ext cx="8178840" cy="71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8D5B-6614-449F-8768-53C60014AC6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nstruction Categori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ata Transfer instruct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rithmetic &amp; Logic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ov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omparis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hift &amp; Rotat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ogram Contro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ther Contro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ustom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0580-777D-46CB-BC39-CEAD3DB5F34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Symbol"/>
                <a:ea typeface="Symbol"/>
              </a:rPr>
              <a:t></a:t>
            </a: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roc Characteristic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1. What does the pipeline look like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2. What is the register structure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3. What data types are supported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4. What unusual or “interesting” instructions exist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Lucida Grande"/>
              </a:rPr>
              <a:t>5. What is the subroutine call/return sequence like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6. What are its memory management conventions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7. How are exceptions and interrupts handled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8. How does it support co-processors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DFA2-9FEF-443C-9175-B620EF5267A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all / Return Sequenc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imary Problems in a recursive language: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eturn Addres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assing parameters and return variabl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toring the called routine’s local variables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olution: Use “run-time stack” for procedure linkag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tack Fram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collection of data required by a given routin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87840" indent="-2077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return address, local variables, params &amp; return vars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A05-B499-4C35-A047-8360A0C5B6B0}" type="slidenum">
              <a:t>35</a:t>
            </a:fld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xample Stack Conven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5180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Each unit is a stack fram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Frame specifics differ between architectures &amp; even compiler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30360" y="1874880"/>
            <a:ext cx="6081840" cy="337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AA9-3F16-4023-AFF8-E14CF3DA966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all / Return Sequenc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tack Pointer (SP) register =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The register holding the address of top of stack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emory Allocation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Code and Data memory space starts at lowest address (00..00) and grows into higher addresse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Run-Time stack starts at highest addres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(FF..FF)  and grows into lower addresse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4C12-FFEA-469A-9CCC-690FD7911427}" type="slidenum">
              <a:t>37</a:t>
            </a:fld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Nios II Stack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97040" y="1874880"/>
            <a:ext cx="75499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67FF-B258-41DB-841E-C619AEF04C1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ubroutine Call Instruction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2228760"/>
            <a:ext cx="8229600" cy="38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C518-6088-4C62-AA82-7B374B378F2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Nios II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Altera Nios II is a soft microprocessor “core”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Exists as configuration &amp; the describing file(s)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he hardware description can be downloaded onto an FPGA after compilation to partition, place &amp; rout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Comes in three cores sizes/types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Nios II/e - Economy.  Small physical size, low performanc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Nios II/s -- Standard.  Study in tradeoffs, used in Tutori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Nios II/f – Fast.  Blazing performance, big physical size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dded flexibility – Cache sizes in each cor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Peripherals – added arbitrarily using SOPC build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Target Application = embedded microcontroller 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4009-A23E-4F78-B9D6-2ECEDFCFF1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ubroutine Call/Return Sequenc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CALL</a:t>
            </a: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 = standard call instruction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Branches to subroutine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stores return address in </a:t>
            </a: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ra</a:t>
            </a: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  (</a:t>
            </a: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r31</a:t>
            </a: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2" marL="1053000" indent="-221400">
              <a:lnSpc>
                <a:spcPct val="90000"/>
              </a:lnSpc>
              <a:spcBef>
                <a:spcPts val="34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Syntax: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CALL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label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3" marL="1385640" indent="-221400">
              <a:lnSpc>
                <a:spcPct val="90000"/>
              </a:lnSpc>
              <a:spcBef>
                <a:spcPts val="3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ra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←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PC + 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lvl="3" marL="1385640" indent="-221400">
              <a:lnSpc>
                <a:spcPct val="90000"/>
              </a:lnSpc>
              <a:spcBef>
                <a:spcPts val="3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PC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←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PC31..28 : IMM26 × 4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lvl="2" marL="1053000" indent="-221400">
              <a:lnSpc>
                <a:spcPct val="90000"/>
              </a:lnSpc>
              <a:spcBef>
                <a:spcPts val="34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CALL %rA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aco"/>
              </a:rPr>
              <a:t>RET</a:t>
            </a: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 = return from subroutine 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Returns from subroutine – using return address stored by </a:t>
            </a: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CALL</a:t>
            </a: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 instruction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syntax:     </a:t>
            </a:r>
            <a:r>
              <a:rPr b="0" lang="en-US" sz="1700" spc="-1" strike="noStrike">
                <a:solidFill>
                  <a:srgbClr val="000000"/>
                </a:solidFill>
                <a:latin typeface="Monaco"/>
              </a:rPr>
              <a:t>RET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3" marL="1385640" indent="-221400">
              <a:lnSpc>
                <a:spcPct val="90000"/>
              </a:lnSpc>
              <a:spcBef>
                <a:spcPts val="3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PC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←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ra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lvl="3" marL="1385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The only storage of state in the instruction set architecture is the return address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The remainder of the run-time stack is managed by software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FB2F-1131-4A0E-AEAD-FF61EE23E39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Register Usag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335280" y="1874880"/>
            <a:ext cx="235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Args &amp; Return are set up for 64-bit data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Each procedure has at least 14 registers for local use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Not truly a general purpose register file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76160" y="1874880"/>
            <a:ext cx="499932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C51C-888D-40C6-B207-1D5FB3DD138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tack Management -- In C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tack is managed by software conven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273320" y="2725560"/>
            <a:ext cx="6597360" cy="367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4DD-8855-45A5-BC00-D3D5F6B4266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all/Return in Other ISA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Instructions to support context switching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Context switching when O.S. changes process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must save entire processor state, including: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CC'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PID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All data registers  (this is one argument for fewer regs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Better left to Operating System, rather than to special instr.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Instructions to assist procedure call and return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Very common action in real softwar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Mostly run-time stack managemen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Worthy of its own major topic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E5D-7F0F-46DA-9649-AF2BEB23FEA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Symbol"/>
                <a:ea typeface="Symbol"/>
              </a:rPr>
              <a:t></a:t>
            </a: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roc Characteristic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1. What does the pipeline look like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2. What is the register structure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3. What data types are supported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4. What unusual or “interesting” instructions exist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5. What is the subroutine call/return sequence like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Lucida Grande"/>
              </a:rPr>
              <a:t>6. What are its memory management conventions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7. How are exceptions and interrupts handled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8. How does it support co-processors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1607-A099-4024-97DF-02D36A2454D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Nios II Memory managemen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Cach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Instruction &amp; Data – utilize M4K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ightly Coupled Memor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Basically Software managed cache  - utilize M4K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20600" indent="-214560">
              <a:lnSpc>
                <a:spcPct val="90000"/>
              </a:lnSpc>
              <a:spcBef>
                <a:spcPts val="34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guaranteed low-latency memor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2" marL="1020600" indent="-214560">
              <a:lnSpc>
                <a:spcPct val="90000"/>
              </a:lnSpc>
              <a:spcBef>
                <a:spcPts val="34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ccess for performance-critical application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2" marL="1020600" indent="-214560">
              <a:lnSpc>
                <a:spcPct val="90000"/>
              </a:lnSpc>
              <a:spcBef>
                <a:spcPts val="34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Software can guarantee that performance-critical code or data is located in tightly coupled memor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2" marL="1020600" indent="-214560">
              <a:lnSpc>
                <a:spcPct val="90000"/>
              </a:lnSpc>
              <a:spcBef>
                <a:spcPts val="34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No real-time caching overhead, such as loading, invalidating, or flushing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Memory mapped using SOPC builder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Off Chip Memor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SRAM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DRAM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Flash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Compact Flash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A857-AC97-42FB-89BC-778EDB13125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Avalon Switch Fabric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832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Not a Bu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Encompasses a hierarchy in the “fabric”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Encompasse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ddress decoding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Control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atching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Up to 128 bit width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98600" y="1874880"/>
            <a:ext cx="395280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308-F83C-4F0A-8FD9-66504BAE5BB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eripheral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Separate I/O address space</a:t>
            </a:r>
            <a:endParaRPr b="0" lang="en-US" sz="27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Requires separate instructions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s used in x86 architecture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e entire I/O address space is peripherals or unutilized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Memory Mapped I/O</a:t>
            </a:r>
            <a:endParaRPr b="0" lang="en-US" sz="27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Uses the same instructions as LD/S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ypical of RISC architectures, used in Nios II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2CD-2F59-4B00-AD02-9F48795DCB0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Nios Peripheral devic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Have a library of peripherals to choose from, including: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Two types of serial interface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Parallel port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Timer 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And of course, you can always design your own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8594" t="25004" r="3127" b="31250"/>
          <a:stretch/>
        </p:blipFill>
        <p:spPr>
          <a:xfrm>
            <a:off x="1216080" y="3805200"/>
            <a:ext cx="6710400" cy="259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C66-1909-49B7-B893-8CE7B6F8C20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Symbol"/>
                <a:ea typeface="Symbol"/>
              </a:rPr>
              <a:t></a:t>
            </a: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roc Characteristic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1. What does the pipeline look like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2. What is the register structure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3. What data types are supported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4. What unusual or “interesting” instructions exist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5. What is the subroutine call/return sequence like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6. What are its memory management conventions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Lucida Grande"/>
              </a:rPr>
              <a:t>7. How are exceptions and interrupts handled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8. How does it support co-processors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47F-5466-4187-8104-DF449E9D6E2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Nios II Development flow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ystem (SOPC) desig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Parallel Hardware &amp; Software desig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Both dependant upon system design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oftware dependant upon the hardware definiti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(base addresses, etc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llows for iterative desig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8320" y="1906560"/>
            <a:ext cx="3809880" cy="447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0867-A58A-4A29-90CD-C8A0DECDA0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nterrup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Hardware level support for acquiring CPU attenti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Useful for minimizing latency &amp; high level of temporal accuracy (PWM, input capture, etc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imilar to procedure calls – performed unexpectedly by hardware or softwar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Interrupt (synchronous, device generated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Maskable: device-generated, associated with IRQs (interrupt request lines); may be temporarily disabled (still pending)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Nonmaskable: some critical hardware failure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Exceptions (asynchronous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Processor-detected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90000"/>
              </a:lnSpc>
              <a:spcBef>
                <a:spcPts val="3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Faults – correctable (restartable); e.g. page fault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90000"/>
              </a:lnSpc>
              <a:spcBef>
                <a:spcPts val="3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Traps – no re execution needed; e.g. breakpoint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90000"/>
              </a:lnSpc>
              <a:spcBef>
                <a:spcPts val="3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Aborts – severe error; process usually terminated (by signal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Programmed exceptions (software interrupts)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90000"/>
              </a:lnSpc>
              <a:spcBef>
                <a:spcPts val="3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int (system call), int3 (breakpoint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90000"/>
              </a:lnSpc>
              <a:spcBef>
                <a:spcPts val="3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into (overflow), bounds (address check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06AD-591C-4E9B-BD39-F1E2CD2050A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General Interrupts 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on-vectored exception controller to handle all exception typ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ll exceptions, including hardware interrupts, cause the processor to transfer execution to a single exception addres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ios II supports nested interrup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ios II has 32 level-sensitive interrupt reques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(IRQ0 – IRQ31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8DA1-201B-44C6-AEA2-690E6EBF5F5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Hardware Exception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A hardware interrupt is generated if and only if all three of these conditions are true: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IE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bit of the status register is 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n interrupt-request input,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rqn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, is asserted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he corresponding bit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of the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enable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register is 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3" marL="1371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Exceptions are installed by 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ssigning IRQ in SOPC Build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37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nstalling an Interrupt Service Routine (ISR)</a:t>
            </a:r>
            <a:br>
              <a:rPr sz="1800"/>
            </a:b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int alt_irq_register (alt_u32 id,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                      void* context,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Monaco"/>
              </a:rPr>
              <a:t>   void (*isr)(void*, alt_u32));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  <a:p>
            <a:pPr lvl="2" marL="1042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Enabling (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IE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&amp;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ENable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) in software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87A8-896D-4009-9E9C-EFC934CE327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Vector Tab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More traditional to have interrupt vectors for each IRQ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Tradeoffs : faster, more address space, less complex ISR, more complex general exception handler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Vector Tables 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reset addres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exception addres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break handler addres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SR handler address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187880" y="3332160"/>
            <a:ext cx="4594320" cy="319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77DA-AE56-49C9-AF5F-B4238083463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Symbol"/>
                <a:ea typeface="Symbol"/>
              </a:rPr>
              <a:t></a:t>
            </a: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roc Characteristic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1. What does the pipeline look like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2. What is the register structure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3. What data types are supported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4. What unusual or “interesting” instructions exist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5. What is the subroutine call/return sequence like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6. What are its memory management conventions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7. How are exceptions and interrupts handled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Lucida Grande"/>
              </a:rPr>
              <a:t>8. How does it support co-processors?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8469-4240-4A80-8F45-FE35FD0AFCD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o-processor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A coprocessor is a computer processor used to supplement the functions of the primary processor (the CPU). 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Operations performed by the coprocessor may be floating point arithmetic, graphics, signal processing, string processing, or encryption. 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Co-processors are more common in the past when an entire CPU could not be contained on a single ASIC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80386 – Integer processor ; 80387 floating point processo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More common in modern systems are Multiprocessors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Co-processors are subordinate by hardware architectur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Multiprocessors may be peers, subordinate by hardware or subordinate by softwar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EE84-6269-4E72-A7DF-E6CF4E1C2C6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ulti-processor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Multi-processor does not necessarily mean symmetric multiprocessor (SMP) where all are equ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20600" indent="-214560">
              <a:lnSpc>
                <a:spcPct val="90000"/>
              </a:lnSpc>
              <a:spcBef>
                <a:spcPts val="34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Some (Dual Core Pentium 4) may be both SMP &amp; CMP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Symmetric Multiprocessors (SMP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Chip Multiprocessors (CMP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20600" indent="-214560">
              <a:lnSpc>
                <a:spcPct val="90000"/>
              </a:lnSpc>
              <a:spcBef>
                <a:spcPts val="34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CELL Multiprocessor (PPE &amp; SPEs) (Playstation 3 &amp; other Apps)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Simultaneous Multi-Threading (SMT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20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OPC Builder supports multiple Nios II CPU in each hardware desig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May be designed symmetric or disparate architecture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20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Requires a FPGA of significant size – you can figure this out from resource usag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20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hare a common Memory Ma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Some peripherals may be unique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Some peripherals (primarily memory) may be shared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D84D-BF7E-4DDC-90FB-E7C5C317FE2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o-processor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How do parallel processors communicate?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Shared Memory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Message Passing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Nios II uses a shared memory architectur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Even shared memory multiprocessors frequently pass messag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856040" y="1874880"/>
            <a:ext cx="36244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541A-0C65-4CF1-AC79-5E3AD5A6E56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Why Multiple Processors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Partitioning of workload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Distribute workload (User Interface, DSP, xmit/recv load/store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Each processor can be designed for that specific function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Each processor may be able to be more Real-Time when workload is limited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ncreased performanc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Requires partitioning the workload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This is how supercomputers work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74600" indent="-226080">
              <a:lnSpc>
                <a:spcPct val="80000"/>
              </a:lnSpc>
              <a:spcBef>
                <a:spcPts val="34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9218"/>
                </a:solidFill>
                <a:uFillTx/>
                <a:latin typeface="Lucida Grande"/>
                <a:hlinkClick r:id="rId1"/>
              </a:rPr>
              <a:t>http://www.top500.org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But with a Nios II – just go with a more powerful processor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Redundanc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74600" indent="-226080">
              <a:lnSpc>
                <a:spcPct val="80000"/>
              </a:lnSpc>
              <a:spcBef>
                <a:spcPts val="34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Some Multi-Core processors are redundant &amp; self-checking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Multiprocessor Cours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EE 5772 - Parallel Computer Organization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CS 5331 - Parallel Algorithms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CS 5431 - Advanced Computer Architecture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D476-62B4-4D80-B3C6-A955D499988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Nios II Concluded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ill remain the centerpoint of the lab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ssembly language programming later in the semest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gnificant Nios II content on Exam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C1A1-408C-4F65-A69A-2D1C68312BB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evelopment Flow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Critical Steps: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Generate – take user description &amp; produce hardware description &amp; required files (header &amp; system spec) for software development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Parallel ancillary hardware &amp; software development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Compile – target complete hardware design for specific FPGA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Compile software for target defined in generate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Test via simulation or execution on FPGA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terative proces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Determine if hardware meets requirements or could be improved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Allows hardware/software tradeoff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llows for optimizing along the critical path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Slack: Time between the stability of the longest delay signal &amp; latching clock edge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42200" indent="-219240">
              <a:lnSpc>
                <a:spcPct val="80000"/>
              </a:lnSpc>
              <a:spcBef>
                <a:spcPts val="34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Produced through simulation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Simulation identifies critical path &amp; the Verilog comprising this path can be tweaked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B5D1-9748-42CD-B9C4-45A0C08881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Chapter 2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Grande"/>
              </a:rPr>
              <a:t>Very little Conten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Grande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ENIAC – first Hardwar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vonNeumann – important concepts of stored programs of instructions with implications to toda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Grande"/>
              </a:rPr>
              <a:t>Designing for performance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Unusual place for DRA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Covered generations of computers alread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600" spc="-1" strike="noStrike">
                <a:solidFill>
                  <a:srgbClr val="000000"/>
                </a:solidFill>
                <a:latin typeface="Lucida Grande"/>
              </a:rPr>
              <a:t>proc Evolutio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x86 : </a:t>
            </a:r>
            <a:r>
              <a:rPr b="0" lang="en-GB" sz="1400" spc="-1" strike="noStrike">
                <a:solidFill>
                  <a:srgbClr val="000000"/>
                </a:solidFill>
                <a:latin typeface="Lucida Grande"/>
              </a:rPr>
              <a:t>4004…8008…8080…8086…80186 (still popula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controller</a:t>
            </a:r>
            <a:r>
              <a:rPr b="0" lang="en-GB" sz="1400" spc="-1" strike="noStrike">
                <a:solidFill>
                  <a:srgbClr val="000000"/>
                </a:solidFill>
                <a:latin typeface="Lucida Grande"/>
              </a:rPr>
              <a:t>) …80286…80386…80486…Pentium…Pentium Pro…Pentium2…Pentium3…Pentium4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RISC vs. CISC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VLIW, EPIC, SM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C9F7-C841-4FE9-9F21-ADDB6389C46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ecture 2 Summa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Nios Architecture is very RISC-y and very straightforward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e’ll spend a lot of time in lab playing with the Nios, and won’t talk much more about it in clas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member our 8-point “Get To Know You” guidelines for examining a new processor architecture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EDBA-BEB5-4682-87A4-4CD3B3E7FC1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OPC Builder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ach SOPC Builder system is represented by a file named </a:t>
            </a:r>
            <a:r>
              <a:rPr b="1" lang="en-US" sz="2800" spc="-1" strike="noStrike">
                <a:solidFill>
                  <a:srgbClr val="000000"/>
                </a:solidFill>
                <a:latin typeface="Lucida Grande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system module name</a:t>
            </a:r>
            <a:r>
              <a:rPr b="1" lang="en-US" sz="2800" spc="-1" strike="noStrike">
                <a:solidFill>
                  <a:srgbClr val="000000"/>
                </a:solidFill>
                <a:latin typeface="Lucida Grande"/>
              </a:rPr>
              <a:t>&gt;.ptf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TF: plain-text file describing the structure of the system and other system-specific detail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n a purely mechanical sense, the SOPC Builder GUI is a 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.ptf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ile editor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generate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process converts the PTF to a Verilog description of the system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7D6-83CD-4D0B-89AD-D380109524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OPC Builder GUI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Far easier than developing the Verilog yourself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Has significantly improved over recent versions (or so I am told)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Handles many of the mundane chores without tedium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Busses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Address decoding 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2224080"/>
            <a:ext cx="4038480" cy="38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75FD-CC2F-445A-A44C-B89D7AE701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Represented System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ote Avalon Switch Fabric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 arbitrary number of each functional unit is support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476600" y="2390760"/>
            <a:ext cx="4368960" cy="330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26C6-8AC3-4083-8762-A6EB69FE82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7T17:07:47Z</dcterms:created>
  <dc:creator>Brian T Davis</dc:creator>
  <dc:description/>
  <dc:language>en-US</dc:language>
  <cp:lastModifiedBy>Christopher Cischke</cp:lastModifiedBy>
  <cp:lastPrinted>2000-01-13T21:33:12Z</cp:lastPrinted>
  <dcterms:modified xsi:type="dcterms:W3CDTF">2008-01-16T18:11:57Z</dcterms:modified>
  <cp:revision>98</cp:revision>
  <dc:subject>EE3173</dc:subject>
  <dc:title>No Slide Title</dc:title>
</cp:coreProperties>
</file>