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8.png" ContentType="image/png"/>
  <Override PartName="/ppt/media/image7.jpeg" ContentType="image/jpeg"/>
  <Override PartName="/ppt/media/image28.jpeg" ContentType="image/jpeg"/>
  <Override PartName="/ppt/media/image29.jpeg" ContentType="image/jpeg"/>
  <Override PartName="/ppt/media/image35.jpeg" ContentType="image/jpeg"/>
  <Override PartName="/ppt/media/image39.png" ContentType="image/png"/>
  <Override PartName="/ppt/media/image9.png" ContentType="image/png"/>
  <Override PartName="/ppt/media/image40.jpeg" ContentType="image/jpeg"/>
  <Override PartName="/ppt/media/image8.jpeg" ContentType="image/jpeg"/>
  <Override PartName="/ppt/media/image38.png" ContentType="image/png"/>
  <Override PartName="/ppt/media/image20.png" ContentType="image/png"/>
  <Override PartName="/ppt/media/image3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32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2.pct" ContentType="image/x-pict"/>
  <Override PartName="/ppt/media/image31.png" ContentType="image/png"/>
  <Override PartName="/ppt/media/image1.png" ContentType="image/png"/>
  <Override PartName="/ppt/media/image10.jpeg" ContentType="image/jpeg"/>
  <Override PartName="/ppt/media/image11.pct" ContentType="image/x-pict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62320" cy="366480"/>
          </a:xfrm>
          <a:prstGeom prst="rect">
            <a:avLst/>
          </a:prstGeom>
          <a:noFill/>
          <a:ln w="0">
            <a:noFill/>
          </a:ln>
        </p:spPr>
        <p:txBody>
          <a:bodyPr lIns="20880" rIns="20880" tIns="0" bIns="0" anchor="t">
            <a:noAutofit/>
          </a:bodyPr>
          <a:p>
            <a:pPr marL="216000"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5438880" y="-1440"/>
            <a:ext cx="4162320" cy="366480"/>
          </a:xfrm>
          <a:prstGeom prst="rect">
            <a:avLst/>
          </a:prstGeom>
          <a:noFill/>
          <a:ln w="0">
            <a:noFill/>
          </a:ln>
        </p:spPr>
        <p:txBody>
          <a:bodyPr lIns="20880" rIns="208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BF74B8D3-C590-4B2F-BC40-ED2E6F560AF5}" type="datetime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2982600" y="555120"/>
            <a:ext cx="3639960" cy="27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1277640" y="3474720"/>
            <a:ext cx="7047000" cy="3289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20880" rIns="208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20880" rIns="208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E5A3A5E0-05A1-4F22-A02B-3CA5C765584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USB supports two data rates – 12MB/s signalling requires higher specified and more expensive cabling; the lower data rate of 1.5Mb/s can be realised with lower cost cabling.  The new high speed USB standard (Ver 2.0) can use the same connector and cabling hard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USB connectors support blind mating in order to fulfil their ease of use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ipes are one of the most important concepts in USB.  The concept uses the analogy of a pipe used in plumb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is slide illustrates the idea of USB pipes.  Tiny pipes connect up to USB endpoints, which we will look at n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USB uses pipes to communicate with Endpoints.  Endpoints are how complex USB devices are made up.  Note that Endpoint 0 is reserved for Control Transfers.  At enumeration time the default connection is to Address 0, Endpoint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ipes and endpoints can have different characterists – different data transfer types and bandwidth requirements.  Each endpoint has a descriptor that allows it to tell the host what its requirements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s example shows how a Multimedia device can be made up of several endpoints, each of which may have different data transfer and bandwidth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USB Defines 4 types of data transfer: Control, Bulk, Interrupt and Isochronous.  Each type is best suited to a particular type of data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USB Defines 4 types of data transfer: Control, Bulk, Interrupt and Isochronous.  Each type is best suited to a particular type of data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s slide describes the various communication layers used in US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CA6-C3D9-4224-AC33-254998E9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B67-0A74-451C-875F-521D3435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7D9-FF8B-4666-AA15-C7961DF7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601-F3A5-401B-94D2-9A6CE31D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1AEA-3E65-48AA-B5B8-0D4BD0C7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3D4E-B290-446F-AD07-7910FDEE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D6BC-0A5D-4048-8F7A-F3E1F42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2A70-B0E6-49F2-AB2B-742CED61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7387-8D87-4C2A-8F08-A2A192EB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BE57-F250-4A67-9B1C-B38BE3EA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DC9E-02E8-4ACA-91DD-600733E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7D2-E929-4406-889D-3799B22A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A934-2816-409A-B7ED-545C845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4FDC-B649-4394-AA97-4DD262ED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D780-97FF-42D6-B45A-5548A3E9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E0E0-5131-4887-9DD7-94AB216B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9596-A3D5-4E24-AA4E-3D364A7F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C2C-5E4B-4309-B108-F7DB6B46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3B4-2E74-4827-B2B7-2FEDFE1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B4F-D935-4871-AF5B-577221B6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D28-FACC-40C2-90E2-0908C40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1E7-C85C-4118-9B79-DB8300AB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365-A2E2-4C75-A1C1-65E6B425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A13-4728-4B1A-89B3-3B4C44A5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60D3-1088-4977-A1D2-7DBFA273D6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CA3-428B-4B5A-954D-0053F3EE766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88EC-EDEF-43E7-89F9-772BF84146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F413-C91A-4D6C-B22A-80BC072AF4E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13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B – The Universal Serial Bu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7E7F-3765-4A94-BE37-FFDA2616C5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2 Types of USB Cab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Lucida Grande"/>
              </a:rPr>
              <a:t>High Speed Cab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Shielded, jacketed - use twisted pair wir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Support max data rates of 12Mb/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Support Cable lengths of 5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Lucida Grande"/>
              </a:rPr>
              <a:t>Low Speed cab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Not shielded, pairs not twisted, cheap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Support 1.5Mb/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Support Cable lengths of 3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23E-0AEC-48F2-9AA9-643F3408999A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fferential Current Driv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66840" y="1874880"/>
            <a:ext cx="6608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0C8-F08B-42BB-BC43-13F6510EE2C6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0666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802480" y="1736640"/>
            <a:ext cx="2673360" cy="18082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848200" y="3543480"/>
            <a:ext cx="2817720" cy="2312280"/>
            <a:chOff x="5848200" y="3543480"/>
            <a:chExt cx="2817720" cy="2312280"/>
          </a:xfrm>
        </p:grpSpPr>
        <p:sp>
          <p:nvSpPr>
            <p:cNvPr id="148" name=""/>
            <p:cNvSpPr/>
            <p:nvPr/>
          </p:nvSpPr>
          <p:spPr>
            <a:xfrm>
              <a:off x="5848200" y="3543480"/>
              <a:ext cx="2817720" cy="2312280"/>
            </a:xfrm>
            <a:prstGeom prst="rect">
              <a:avLst/>
            </a:prstGeom>
            <a:gradFill rotWithShape="0">
              <a:gsLst>
                <a:gs pos="0">
                  <a:srgbClr val="005a51"/>
                </a:gs>
                <a:gs pos="50000">
                  <a:srgbClr val="00b7a5"/>
                </a:gs>
                <a:gs pos="100000">
                  <a:srgbClr val="005a51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970600" y="3781440"/>
              <a:ext cx="1979640" cy="1843200"/>
              <a:chOff x="5970600" y="3781440"/>
              <a:chExt cx="1979640" cy="18432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6141240" y="4150800"/>
                <a:ext cx="1037880" cy="1022040"/>
                <a:chOff x="6141240" y="4150800"/>
                <a:chExt cx="1037880" cy="10220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141240" y="4150800"/>
                  <a:ext cx="1037880" cy="10220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188400" y="4197240"/>
                  <a:ext cx="942480" cy="926640"/>
                </a:xfrm>
                <a:prstGeom prst="ellipse">
                  <a:avLst/>
                </a:prstGeom>
                <a:noFill/>
                <a:ln w="12600">
                  <a:solidFill>
                    <a:srgbClr val="00dfca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6890760" y="4553640"/>
                <a:ext cx="183600" cy="1850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297840" y="4112280"/>
                <a:ext cx="0" cy="55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06840" y="4116240"/>
                <a:ext cx="133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042680" y="4109040"/>
                <a:ext cx="0" cy="56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6652080" y="4992840"/>
                <a:ext cx="904320" cy="43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17560" y="3781440"/>
                <a:ext cx="832680" cy="187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7640" bIns="176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ower pa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70600" y="5436720"/>
                <a:ext cx="1899360" cy="187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7640" bIns="176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3160"/>
                    <a:tab algn="l" pos="345960"/>
                    <a:tab algn="l" pos="519120"/>
                    <a:tab algn="l" pos="692280"/>
                    <a:tab algn="l" pos="865080"/>
                    <a:tab algn="l" pos="1038240"/>
                    <a:tab algn="l" pos="1211400"/>
                    <a:tab algn="l" pos="1384200"/>
                    <a:tab algn="l" pos="1557360"/>
                    <a:tab algn="l" pos="1730520"/>
                    <a:tab algn="l" pos="1903320"/>
                    <a:tab algn="l" pos="2076480"/>
                    <a:tab algn="l" pos="2249640"/>
                    <a:tab algn="l" pos="2422440"/>
                    <a:tab algn="l" pos="2595600"/>
                    <a:tab algn="l" pos="2768760"/>
                    <a:tab algn="l" pos="2941560"/>
                    <a:tab algn="l" pos="3114720"/>
                    <a:tab algn="l" pos="3287880"/>
                    <a:tab algn="l" pos="3460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ial Signal pa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38440" y="4597560"/>
                <a:ext cx="184320" cy="1890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00240" y="4273560"/>
                <a:ext cx="179280" cy="1872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90880" y="4844880"/>
                <a:ext cx="179280" cy="1850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45520" y="4213800"/>
                <a:ext cx="283680" cy="878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USB Connecto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52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necto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4-Position with shielded hous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sitive Reten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lind Mating Capabilit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bl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8 AWG twisted pair for signal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0-28 AWG pair for pow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hielding for fully rated segm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3D3-630F-4472-A937-B21755F90892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Keyed Connector Protoco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hysical difference in the Series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 insures proper end user connectivity. 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 is the principle means of connecting USB devices directly to a host or to the downstream port of a hub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USB devices must have the standard Series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”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nector. 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 allows device vendors to provide a standard detachable cable. 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acilitates end user cable replacement.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648320" cy="35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E7B-6115-47B1-915A-BB7E1B4EE4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ini-B Connecto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USB 2.0 specified device-side connector – the B connector – is too large for use with a new generation of handheld and mobile devices which would benefit from connectivity to the PC.  Enter a “mini-B” connector. 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e new connector only applies to upstream facing ports, i.e., connectors on devices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2660760"/>
            <a:ext cx="403848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26C-C02A-4851-AD27-556EE6E820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lugs and Receptac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ries “A” receptacle mates with a Series “A” plug.  Electrically, Series “A” receptacles function as outputs from host systems and/or hubs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ries “A” plug mates with a Series “A” receptacle.  The Series “A” plug always is oriented towards the host system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ries “B” receptacle mates with a Series “B” plug (male).  Electrically, Series “B” receptacles function as inputs to hubs or devices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ries “B” plug mates with a Series “B” receptacle.  The Series “B” plug is always oriented towards the USB hub or device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52F-39BA-42EA-927C-BEC51E51E1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erminations - Series A &amp; B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2093760"/>
            <a:ext cx="8229600" cy="40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D91-BD13-4EBC-9431-BD8901FE5E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erminations: mini-B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5880" y="1874880"/>
            <a:ext cx="8110440" cy="4525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07040" y="4641840"/>
            <a:ext cx="1989360" cy="428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DD7-9977-4BF9-A085-6EC509661E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tachable Cab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2084400"/>
            <a:ext cx="8229600" cy="41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CC9-E6D9-41D4-A80B-6150C40D7A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ptive Cab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2085840"/>
            <a:ext cx="8229600" cy="410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989-0328-4F93-A1F7-F5C4689488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ading Assignm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B and Firewire: Two Standards, Only One World – By Monday 07 Apri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ttp://www.analogzone.com/iot_1125.pdf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r on Blackboa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0B8-130C-405E-8DF0-6635A9FF4E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USB Ic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87560" y="1874880"/>
            <a:ext cx="6968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06E-3526-4F81-B15F-085661AFD2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y Multiple Connectors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series A plug is supposed to point towards the hos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f we have a cable with two series A plugs, who is the host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member, USB is really master-slav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us sayeth the spec: A cable assembly with both ends terminated in Series “A” plugs allows two downstream ports to be directly connecte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ownstream is defined as: the direction of data flow from the host or away from the host.  A downstream port is the port on a hub electrically farthest from the host that generates downstream data traffic from the hub.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s noted, mini-B exists because USB wasn’t psychic, predicting the spread of tiny USB gadget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C37-6FD5-4C5D-B59E-3B1C7271F2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vice Stat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nly PART of the device F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vice must establish communication at 12 MHz before trying 48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vice state is known by IOP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127 maximum de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70320" y="1874880"/>
            <a:ext cx="29926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83F-0A5B-493A-850D-C63E992DE6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sconnect Dete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Basic idea is to check for higher than normal signal voltages on the differential pair 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Higher voltages will result when device terminations are removed - nominal increase is a jump from 400mV to 800mV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Check is performed during last 8 bits of EOP of uSOF frames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uSOF EOP is lengthened to 40 bits to make this mechanism reliable - duration must be longer than round-trip time of maximum length cable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98480" y="4222800"/>
            <a:ext cx="574524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73E-27E7-4CC3-AEDE-56B42BACF5F3}" type="slidenum">
              <a:t>23</a:t>
            </a:fld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SI Mode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887480" y="1874880"/>
            <a:ext cx="53672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A87-1B53-4255-8879-EDB6630F9A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 Laye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gineers can focus on a single lay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unction calls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r_spi_txchar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) allow simple interfacing to interrupt I/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ree layers – will this result in lower latency than the OSI 7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740120" y="1874880"/>
            <a:ext cx="38530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759-E5A0-49C1-8F44-65B1DCB34B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 changes Req’d for 2.0 for these SW piec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8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w development work for Host Controller Driver and Hub Driv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 2.0 Software Stack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90480" y="1874880"/>
            <a:ext cx="357048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454560" y="2228760"/>
            <a:ext cx="1551960" cy="1923480"/>
            <a:chOff x="3454560" y="2228760"/>
            <a:chExt cx="1551960" cy="1923480"/>
          </a:xfrm>
        </p:grpSpPr>
        <p:sp>
          <p:nvSpPr>
            <p:cNvPr id="202" name=""/>
            <p:cNvSpPr/>
            <p:nvPr/>
          </p:nvSpPr>
          <p:spPr>
            <a:xfrm>
              <a:off x="3747960" y="2228760"/>
              <a:ext cx="1258560" cy="19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738600" y="2390760"/>
              <a:ext cx="1248840" cy="707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454560" y="2541240"/>
              <a:ext cx="1517400" cy="1611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E7A-A9B2-4E1F-A98E-037F506A38E7}" type="slidenum">
              <a:t>26</a:t>
            </a:fld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568440"/>
            <a:ext cx="89154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acket Size Comparis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77800" y="1828800"/>
            <a:ext cx="6188400" cy="3538440"/>
            <a:chOff x="1477800" y="1828800"/>
            <a:chExt cx="6188400" cy="3538440"/>
          </a:xfrm>
        </p:grpSpPr>
        <p:sp>
          <p:nvSpPr>
            <p:cNvPr id="207" name=""/>
            <p:cNvSpPr/>
            <p:nvPr/>
          </p:nvSpPr>
          <p:spPr>
            <a:xfrm>
              <a:off x="1477800" y="1828800"/>
              <a:ext cx="6188400" cy="3538440"/>
            </a:xfrm>
            <a:prstGeom prst="rect">
              <a:avLst/>
            </a:prstGeom>
            <a:gradFill rotWithShape="0">
              <a:gsLst>
                <a:gs pos="0">
                  <a:srgbClr val="6e2c28"/>
                </a:gs>
                <a:gs pos="50000">
                  <a:srgbClr val="f06157"/>
                </a:gs>
                <a:gs pos="100000">
                  <a:srgbClr val="6e2c28"/>
                </a:gs>
              </a:gsLst>
              <a:lin ang="13500000"/>
            </a:gradFill>
            <a:ln w="28440">
              <a:solidFill>
                <a:srgbClr val="cc99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73920" y="3024360"/>
              <a:ext cx="1928880" cy="23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Bul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Interrup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Isochrono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69280" y="3024360"/>
              <a:ext cx="1796040" cy="23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568c7"/>
                  </a:solidFill>
                  <a:latin typeface="Arial Narrow"/>
                </a:rPr>
                <a:t>8, 16, 32, 6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568c7"/>
                  </a:solidFill>
                  <a:latin typeface="Arial Narrow"/>
                </a:rPr>
                <a:t>8, 16, 32, 6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568c7"/>
                  </a:solidFill>
                  <a:latin typeface="Arial Narrow"/>
                </a:rPr>
                <a:t>1-6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568c7"/>
                  </a:solidFill>
                  <a:latin typeface="Arial Narrow"/>
                </a:rPr>
                <a:t>10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6680" y="3024360"/>
              <a:ext cx="826920" cy="23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22cd"/>
                  </a:solidFill>
                  <a:latin typeface="Arial Narrow"/>
                </a:rPr>
                <a:t>6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22cd"/>
                  </a:solidFill>
                  <a:latin typeface="Arial Narrow"/>
                </a:rPr>
                <a:t>5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22cd"/>
                  </a:solidFill>
                  <a:latin typeface="Arial Narrow"/>
                </a:rPr>
                <a:t>10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22cd"/>
                  </a:solidFill>
                  <a:latin typeface="Arial Narrow"/>
                </a:rPr>
                <a:t>10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29200" y="249876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568c7"/>
                  </a:solidFill>
                  <a:latin typeface="Arial Narrow"/>
                </a:rPr>
                <a:t>USB 1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60960" y="249876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22cd"/>
                  </a:solidFill>
                  <a:latin typeface="Arial Narrow"/>
                </a:rPr>
                <a:t>USB 2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13160" y="189540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 Narrow"/>
                </a:rPr>
                <a:t>Transfer 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88800" y="1895400"/>
              <a:ext cx="174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 Narrow"/>
                </a:rPr>
                <a:t>Packet siz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77800" y="2438280"/>
              <a:ext cx="6188400" cy="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795840" y="1841400"/>
              <a:ext cx="1440" cy="352584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730840" y="2437920"/>
              <a:ext cx="1800" cy="292428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7800" y="2989440"/>
              <a:ext cx="6188400" cy="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77800" y="3591000"/>
              <a:ext cx="6188400" cy="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77800" y="4205160"/>
              <a:ext cx="6188400" cy="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77800" y="4794120"/>
              <a:ext cx="6188400" cy="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666-70F2-4F78-BB26-4E44C66661DE}" type="slidenum">
              <a:t>27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USB Pi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USB Communication uses the idea of a Pip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The USB connection consists of a big pipe (12Mb/s) and up to 127 small pip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Each of the small pipes connects to a USB dev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Each small pipe can connect to a smaller pipe (tiny pipe) – up to 16 tiny pipes per small pip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7A1-68F2-45F0-971C-69D42C0509A5}" type="slidenum">
              <a:t>28</a:t>
            </a:fld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1822cd"/>
                </a:solidFill>
                <a:latin typeface="Lucida Grande"/>
              </a:rPr>
              <a:t>USB Pipes – Analogy To Physical Pipe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54080" y="1874880"/>
            <a:ext cx="70358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CD3-347C-4862-8C13-4097B2802764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fferent types of I/O Channe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v1.0, v1.1 &amp; v2.0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nfinib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rewi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gether with TCP/I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7C3-A9CC-4DB1-81BC-43B09796C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Addresses and Endpoin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USB Token has 7 address bits per USB devi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Address 0 – USB Default address is used for all devices when first attach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Hence 127 USB Devices (small pipe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4 Endpoint bits in a USB token allow up to 16 pairs of tiny pipes per small pi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Endpoint 0 – just for Control transf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USB Tokens also identify IN or OUT dire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15 bi-directional sources or receivers of data per USB Device – identified by Endpoi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033-AE99-4417-95BE-76B42EF5F3FC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USB Pipes and Endpoin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Lucida Grande"/>
              </a:rPr>
              <a:t>All USB transfers occur through virtual pipes associated with Endpoint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Lucida Grande"/>
              </a:rPr>
              <a:t>Each Pipe may have different bandwidth and may require different types of data transfer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Lucida Grande"/>
              </a:rPr>
              <a:t>Each endpoint associated with a </a:t>
            </a:r>
            <a:r>
              <a:rPr b="0" i="1" lang="en-IE" sz="2500" spc="-1" strike="noStrike">
                <a:solidFill>
                  <a:srgbClr val="000000"/>
                </a:solidFill>
                <a:latin typeface="Lucida Grande"/>
              </a:rPr>
              <a:t>descriptor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Lucida Grande"/>
              </a:rPr>
              <a:t>Type of Data Transf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Lucida Grande"/>
              </a:rPr>
              <a:t>Max size of data packet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Lucida Grande"/>
              </a:rPr>
              <a:t>Interval for transfer, bandwidth needed etc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Lucida Grande"/>
              </a:rPr>
              <a:t>A pipe is of one of two types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Lucida Grande"/>
              </a:rPr>
              <a:t>Message -- Very structured USB-specific stuff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Lucida Grande"/>
              </a:rPr>
              <a:t>Stream -- Unstructured, hey-whatever-its-cool stuff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69C-3989-4886-8A4A-AFA086956528}" type="slidenum">
              <a:t>31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Endpoin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Lucida Grande"/>
              </a:rPr>
              <a:t>Device may have a number of endpoin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Lucida Grande"/>
              </a:rPr>
              <a:t>E.g. Different Endpoint (and pipe) f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977040" indent="-20556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File transfers – low error rate necessar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977040" indent="-20556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Error tolerant but not delay toler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977040" indent="-205560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Low error rate but lower data ra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DC1-B7A5-42E1-BD68-31EC8D611D02}" type="slidenum">
              <a:t>32</a:t>
            </a:fld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 Network Topolog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iered Star Topology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op level devices are called </a:t>
            </a:r>
            <a:r>
              <a:rPr b="0" i="1" lang="en-US" sz="2500" spc="-1" strike="noStrike">
                <a:solidFill>
                  <a:srgbClr val="000000"/>
                </a:solidFill>
                <a:latin typeface="Lucida Grande"/>
              </a:rPr>
              <a:t>hubs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dditional connectors are called </a:t>
            </a:r>
            <a:r>
              <a:rPr b="0" i="1" lang="en-US" sz="2500" spc="-1" strike="noStrike">
                <a:solidFill>
                  <a:srgbClr val="000000"/>
                </a:solidFill>
                <a:latin typeface="Lucida Grande"/>
              </a:rPr>
              <a:t>ports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ny additional functionality is called a </a:t>
            </a:r>
            <a:r>
              <a:rPr b="0" i="1" lang="en-US" sz="2500" spc="-1" strike="noStrike">
                <a:solidFill>
                  <a:srgbClr val="000000"/>
                </a:solidFill>
                <a:latin typeface="Lucida Grande"/>
              </a:rPr>
              <a:t>function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Grande"/>
              </a:rPr>
              <a:t>A single device may contain multiple functions!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2349360"/>
            <a:ext cx="4038480" cy="35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58E-2E29-4994-9788-A8674CB03E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 Flow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gical and Physical Flow of Data through USB Wire,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Endpoint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Pipe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ata is physically transmitted through USB Wire by a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Host Controller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USB System Softwar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consists of Host Controller drivers that enables the client software to communicate with the USB devic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USB Client Softwar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runs on the host computer and communicates and control the USB devices through underlying layers of the USB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B90-6A36-4684-9651-A0E09DE216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 Data Transfer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USB supports four transfer types: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ntrol Transfers:  Bursty, non-periodic, host software-initiated request/response communication, typically used for command/status operation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sochronous Transfers:  Periodic, continuous communication between host and device, typically used for time-relevant information.  This transfer type also preserves the concept of time encapsulated in the data.  This does not imply, however, that the delivery needs of such data is always time-critic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terrupt Transfers:  Low-frequency, bounded-latency communic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ulk Transfers:  Non-periodic, large-packet bursty communication, typically used for data that can use any available bandwidth and can also be delayed until bandwidth is available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35E-306D-4BA6-B2FA-9255CA8530AC}" type="slidenum">
              <a:t>35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ransfer Type Contro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change configuration, set-up and command information between the device and the hos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RCs are used for error checking as error-free transmission is critica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-transmission initiated when errors are detect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-transmission may or may not be during the current microfram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trol endpoints are implemented on Endpoint 0 pai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trol transfer has 2 or 3 stages: setup stage, optional data stage, status stage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860-4968-4CC4-BB37-3242D1ECA20A}" type="slidenum">
              <a:t>3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ransfer Type Bulk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ulk Transf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arge amounts of data where data is not time-critic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rror free transfer important, hence CRC error-checking implemen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aim unused bandwidth when nothing more important is going 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ypical applications: scanners, print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594-CF0B-4BF5-8DE5-62AFB61B6CC5}" type="slidenum">
              <a:t>37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ransfer Type Interrup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rup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t interrupts in normal sense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nidirectional  - only inputs to the hos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mall data transfers that occur infrequent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st polls polls interrupt endpoints to see if they have any data to sen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42200" indent="-21924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ull speed devices: 1ms - 255ms polling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42200" indent="-21924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w speed devices: 10ms - 255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rror checking validates the dat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ice and keyboar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3EA-A35E-41FD-AFE8-106B41806C96}" type="slidenum">
              <a:t>38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ransfer Type Isochronou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sochronou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nidirectional or bidirection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r time sensitive information, e.g. audio or video stream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ystem must be able to tolerate some errors 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 time for error checking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uaranteed access to USB with bounded latenc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o Retr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x packet size for isochronous transfer is 1023B/fra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x isochronous bandwidth is 8.184Mb/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7F8-75D7-4441-B65D-F2E3706BCD88}" type="slidenum">
              <a:t>39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5656320"/>
            <a:ext cx="447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ul.ie/~rinne/et4508/ET4508_p13.pp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re slides l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USB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B = Universal Serial Bu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dustry-led open standa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B Implementers Forum USB-I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l, Microsoft, HP, Compaq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B 1.0 (1996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B 1.1 (1998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B 2.0 (2000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95960" y="4530600"/>
            <a:ext cx="2389320" cy="197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728-A31C-4493-9E49-E514BE0930C1}" type="slidenum">
              <a:t>4</a:t>
            </a:fld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Communication Layers (1)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Lucida Grande"/>
              </a:rPr>
              <a:t>Frame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Lucida Grande"/>
              </a:rPr>
              <a:t>Time between SOF tokens = 1m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Lucida Grande"/>
              </a:rPr>
              <a:t>Consists of a series of transac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Lucida Grande"/>
              </a:rPr>
              <a:t>Transfer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Lucida Grande"/>
              </a:rPr>
              <a:t>One or more transactions to move data between client software and the func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Lucida Grande"/>
              </a:rPr>
              <a:t>Packet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Lucida Grande"/>
              </a:rPr>
              <a:t>Bundle of data organised in a set format for transmiss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Lucida Grande"/>
              </a:rPr>
              <a:t>Types – Token, Start of Frame, Data, Handshake, HS/LS Preambl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Lucida Grande"/>
              </a:rPr>
              <a:t>Typically has Control information, Data to be transferred and Error detection and correc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811-31AB-487A-9577-794D8D90D166}" type="slidenum">
              <a:t>40</a:t>
            </a:fld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rame Gene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ta is transmitted serial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F transmit by Controller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st/IO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F keeps time of chann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48320" y="2282760"/>
            <a:ext cx="4038480" cy="37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8C1-B114-42BE-9167-8BD3603712A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Communication Layers (2)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Grouping of no more than 3 packe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Host initiates a token packet according to schedu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PID identifies transaction ty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60520" y="4222800"/>
            <a:ext cx="802152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131-B0D1-4E55-B92A-7937FDEEE272}" type="slidenum">
              <a:t>42</a:t>
            </a:fld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 </a:t>
            </a: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Packets – 4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Grande"/>
              </a:rPr>
              <a:t>Token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Grande"/>
              </a:rPr>
              <a:t>SOF (Start of Frame)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Grande"/>
              </a:rPr>
              <a:t>Data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Grande"/>
              </a:rPr>
              <a:t>Handshak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300" spc="-1" strike="noStrike">
                <a:solidFill>
                  <a:srgbClr val="000000"/>
                </a:solidFill>
                <a:latin typeface="Lucida Grande"/>
              </a:rPr>
              <a:t>HS/LS Preamble (optional)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300" spc="-1" strike="noStrike">
                <a:solidFill>
                  <a:srgbClr val="000000"/>
                </a:solidFill>
                <a:latin typeface="Lucida Grande"/>
              </a:rPr>
              <a:t>All packets hav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Grande"/>
              </a:rPr>
              <a:t>Sync field to lock the Phase Locked Loo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Grande"/>
              </a:rPr>
              <a:t>Followed by Packet Identifier (PID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Grande"/>
              </a:rPr>
              <a:t>Also address, frame number or dat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Lucida Grande"/>
              </a:rPr>
              <a:t>Packe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Bundle of data organized in a known format for transmiss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Lucida Grande"/>
              </a:rPr>
              <a:t>Typically has Control information, Data tobe transferred and Error detection and corre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D09-3DFE-47A6-921D-D54BB128DF77}" type="slidenum">
              <a:t>43</a:t>
            </a:fld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Token Packe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874880"/>
            <a:ext cx="69991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1DA-92BF-4562-B11F-68AEBD269632}" type="slidenum">
              <a:t>44</a:t>
            </a:fld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Packet Identifi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33240" y="1751040"/>
          <a:ext cx="7975800" cy="436392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  <a:gridCol w="1962360"/>
                <a:gridCol w="20890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[3: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[1:0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dsh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dsh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dsh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0F6-6EA2-4329-A50F-46E45D9395F8}" type="slidenum">
              <a:t>45</a:t>
            </a:fld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SOF Packe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51861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000000"/>
                </a:solidFill>
                <a:latin typeface="Arial"/>
              </a:rPr>
              <a:t>SOF packets are sent by the host once every 1.00ms +/- 0.05m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77880" y="1874880"/>
            <a:ext cx="5988240" cy="31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7EA-6D91-4806-B4DB-35BD04084C03}" type="slidenum">
              <a:t>46</a:t>
            </a:fld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Data Packe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4767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Grande"/>
              </a:rPr>
              <a:t>Devices respond to requests from the Host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Grande"/>
              </a:rPr>
              <a:t>Host sends an IN and device endpoint responds with a packet OR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Grande"/>
              </a:rPr>
              <a:t>Host sends an OUT followed by a data packet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Grande"/>
              </a:rPr>
              <a:t>Bulk, Control, Interrupt: host responds with an Acknowledge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298440" indent="-29844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Lucida Grande"/>
              </a:rPr>
              <a:t>Isochronous: no handshake packet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76400" y="1874880"/>
            <a:ext cx="51912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49A-3FDA-4EB3-9D7B-CEFEFC0833C0}" type="slidenum">
              <a:t>47</a:t>
            </a:fld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1822cd"/>
                </a:solidFill>
                <a:latin typeface="Lucida Grande"/>
              </a:rPr>
              <a:t>Handshake Packe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Lucida Grande"/>
              </a:rPr>
              <a:t>Special Packe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Lucida Grande"/>
              </a:rPr>
              <a:t>Host sends a PRE (preamble) packet when it wants to communicate with 1.5Mb/s device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92240" y="1874880"/>
            <a:ext cx="515772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D1B-43F9-4D21-9477-19958026E234}" type="slidenum">
              <a:t>48</a:t>
            </a:fld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1822cd"/>
                </a:solidFill>
                <a:latin typeface="Lucida Grande"/>
              </a:rPr>
              <a:t>USB Frame Model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6249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62499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66800" y="1874880"/>
            <a:ext cx="5808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AF7-8690-4EE0-B485-E7829A7873D7}" type="slidenum">
              <a:t>49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ww.usb.or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101840"/>
            <a:ext cx="822168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pecification freely availab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ages from many loc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st from usb.org present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4960" y="1822320"/>
            <a:ext cx="2333520" cy="1757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88840" y="5832360"/>
            <a:ext cx="41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usb.org/developers/presentation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14600" y="1795320"/>
            <a:ext cx="2387880" cy="1797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207120" y="1817640"/>
            <a:ext cx="246708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7B1-BFCB-4D9C-BC06-CE370F5D71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sochronous SW Interfac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2480" indent="-2224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Packet-oriented interfac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222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i="1" lang="en-US" sz="2300" spc="-1" strike="noStrike">
                <a:solidFill>
                  <a:srgbClr val="cccccc"/>
                </a:solidFill>
                <a:latin typeface="Lucida Grande"/>
              </a:rPr>
              <a:t>Each I/O Request includes: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222480" indent="-2224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Reference to a virtually contiguous data buffer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222480" indent="-2224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Array of packet info/statu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533160" indent="-214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put: per packet buffer offse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533160" indent="-214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utput: per transaction resul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533160" indent="-214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ach element maps to one USB Frame (1 ms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22480" indent="-2224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Minimum sized request buffer is one packet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63640" y="1874880"/>
            <a:ext cx="322272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3F3-AF29-4218-863C-9D2EF92BEF6C}" type="slidenum">
              <a:t>50</a:t>
            </a:fld>
          </a:p>
        </p:txBody>
      </p:sp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: Explicit Timesha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</a:rPr>
              <a:t>Enables Qo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Grande"/>
                <a:ea typeface="新細明體"/>
              </a:rPr>
              <a:t>Example of Device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Grande"/>
                <a:ea typeface="新細明體"/>
              </a:rPr>
              <a:t>Sharing USB Bandwidth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Grande"/>
                <a:ea typeface="新細明體"/>
              </a:rPr>
              <a:t>During a Single Fram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新細明體"/>
              </a:rPr>
              <a:t>Isochronous Transf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新細明體"/>
              </a:rPr>
              <a:t>Interrupt Transf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新細明體"/>
              </a:rPr>
              <a:t>Control Transf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新細明體"/>
              </a:rPr>
              <a:t>Bulk Transf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072040" y="1874880"/>
            <a:ext cx="31924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8E1-AFD1-4712-93FF-8F8E694764E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5902200"/>
            <a:ext cx="7616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cc"/>
                </a:solidFill>
                <a:latin typeface="Arial Narrow"/>
              </a:rPr>
              <a:t>Dual Termination Makes USB 2.0 Speeds Possible</a:t>
            </a:r>
            <a:br>
              <a:rPr sz="2400"/>
            </a:br>
            <a:r>
              <a:rPr b="1" i="1" lang="en-US" sz="2400" spc="-1" strike="noStrike">
                <a:solidFill>
                  <a:srgbClr val="cccccc"/>
                </a:solidFill>
                <a:latin typeface="Arial Narrow"/>
              </a:rPr>
              <a:t>on USB 1.X Cable Assemb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568440"/>
            <a:ext cx="89154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 2.0 Dual Termina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4249800"/>
            <a:ext cx="822960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19600" indent="-21960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imulation assumes ideal transceivers and termination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19600" indent="-21960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ypical imperfections are modeled for cable, connectors, bond wires, etc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19600" indent="-21960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2.7X increase in eye opening, 2.7X decrease in jitt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65280" y="1822320"/>
            <a:ext cx="3317760" cy="1741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764240" y="1790640"/>
            <a:ext cx="3500280" cy="1751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61920" y="356220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822cd"/>
                </a:solidFill>
                <a:latin typeface="Arial Narrow"/>
              </a:rPr>
              <a:t>Single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24320" y="34815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822cd"/>
                </a:solidFill>
                <a:latin typeface="Arial Narrow"/>
              </a:rPr>
              <a:t>Dual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514-A1A1-4B84-8097-4D31340E04CF}" type="slidenum">
              <a:t>52</a:t>
            </a:fld>
          </a:p>
        </p:txBody>
      </p:sp>
    </p:spTree>
  </p:cSld>
  <p:transition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grated ASIC USB Solu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90680" y="1812960"/>
            <a:ext cx="4638600" cy="4183200"/>
          </a:xfrm>
          <a:prstGeom prst="rect">
            <a:avLst/>
          </a:prstGeom>
          <a:ln w="28440">
            <a:solidFill>
              <a:srgbClr val="ff9218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90" name=""/>
          <p:cNvSpPr/>
          <p:nvPr/>
        </p:nvSpPr>
        <p:spPr>
          <a:xfrm>
            <a:off x="821520" y="274680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RM7TD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92800" y="2743920"/>
            <a:ext cx="13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SB 1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16640" y="463752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K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90560" y="4078800"/>
            <a:ext cx="131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30K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07C-32EF-4BBC-B1C0-F3A79F61821C}" type="slidenum">
              <a:t>53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ere to from her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B On-The-G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llows USB connections without a host. 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irect competition with FireWir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ireless USB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480 Mbps at 3m, 110 Mbps at 10m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therwise is normal USB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B 3.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perSpeed -- 4.8 Gbps.  Demonstrated late 2008, spec available “soon”, commercial devices in 2009 or 2010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upposedly adds another differential pair specifically for SuperSpeed transmissions, while retaining familiar USB connector </a:t>
            </a:r>
            <a:r>
              <a:rPr b="0" i="1" lang="en-US" sz="2000" spc="-1" strike="noStrike">
                <a:solidFill>
                  <a:srgbClr val="000000"/>
                </a:solidFill>
                <a:latin typeface="Lucida Grande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D25-FFE7-4DF3-A4D4-3704E28C805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ne Last Amuseme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re are an increasing number of devices that could potentially take advantage of the additional bandwidth, including external hard drives, flash readers, video cameras, and the all-new USB-compliant llama expected to be genetically delivered from the Andes sometime in late 2011. Obviously a USB llama wouldn't be much use without a USB 3.0 device—ever tried downloading from a llama over an old 10BaseT network? Yeah. It'd be worse.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966240" indent="-203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Joel Hruska, “Ars Technica”, 17 September 2007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8" name=""/>
          <p:cNvSpPr/>
          <p:nvPr/>
        </p:nvSpPr>
        <p:spPr>
          <a:xfrm>
            <a:off x="211320" y="6559560"/>
            <a:ext cx="2968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http://arstechnica.com/news.ars/post/20070918-intel-announces-demonstrates-usb-3-0.htm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BDE-6206-4F50-903D-4B4391ADC03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13 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B is a modern serial communications protocol that is cheap but effectiv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cket-based interfa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ster-slave arbitr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fferential current signal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w Speed, Full Speed, High Spe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ip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p to 127 devices on a given b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446-E591-4AC1-A24F-6B1310BE86A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  <a:ea typeface="新細明體"/>
              </a:rPr>
              <a:t>USB Versions &amp; Bandwidth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新細明體"/>
              </a:rPr>
              <a:t>USB 1.X is up to 12Mb/s (F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新細明體"/>
              </a:rPr>
              <a:t>1.536KB/s in a single fram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新細明體"/>
              </a:rPr>
              <a:t>USB 2.0 is up to 480Mb/s (HS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新細明體"/>
              </a:rPr>
              <a:t>7.68KB/s in a single fram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3628" t="24167" r="12532" b="25484"/>
          <a:stretch/>
        </p:blipFill>
        <p:spPr>
          <a:xfrm>
            <a:off x="4735440" y="4040280"/>
            <a:ext cx="4035600" cy="206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2960" y="4125960"/>
            <a:ext cx="260352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E9F-DB09-43CB-AA87-3B4848C10E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USB 1.1/2.0 Interoperability Matrix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3440" y="1930320"/>
            <a:ext cx="8130960" cy="42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596-B2F8-4488-A041-4477B7D25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 2.0: What Changed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ow level electricals for High Speed (HS) signal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uch higher bit rate (480Mb/s) requires new transmitter/receiver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ub changes for backward compatibil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eatures limit bandwidth impact of Full Speed (F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d Low Speed (LS) devices on HS de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S/LS devices consume a bit-rate equival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f HS bandwidt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6Mb/s conferencing camera consumes 50% (6 / 12) of FS bus, but only ~2% (6 / 480) of HS bu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A4E-0FF8-48F3-B2E1-1B2BC2A7F257}" type="slidenum">
              <a:t>8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USB Cab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22280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mplicity at the physical lay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ll information Serial – single BIT of dat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igh-speed (HS) signaling bit rate is 480 Mb/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full-speed (FS) signaling bit rate is 12 Mb/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limited capability low-speed signaling mode is also defined at 1.5 Mb/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" name=""/>
          <p:cNvSpPr/>
          <p:nvPr/>
        </p:nvSpPr>
        <p:spPr>
          <a:xfrm>
            <a:off x="1566720" y="614664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usb.org/developers/do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71640" y="1874880"/>
            <a:ext cx="540072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A73-0ED4-4C60-B9AE-F7D35484F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7:07:47Z</dcterms:created>
  <dc:creator>Brian T Davis</dc:creator>
  <dc:description/>
  <dc:language>en-US</dc:language>
  <cp:lastModifiedBy>Christopher Cischke</cp:lastModifiedBy>
  <cp:lastPrinted>2000-01-13T21:33:12Z</cp:lastPrinted>
  <dcterms:modified xsi:type="dcterms:W3CDTF">2008-04-07T16:48:04Z</dcterms:modified>
  <cp:revision>159</cp:revision>
  <dc:subject>EE3173</dc:subject>
  <dc:title>No Slide Title</dc:title>
</cp:coreProperties>
</file>