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1A17-9F3A-415F-B0E8-F48A20F7E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AC98-F860-4CFF-914F-41083BE8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7CCA-842D-4D2F-8EB3-6FA3EE2F8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0424-2881-42EE-9359-BC097E365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0CFA-B44F-4206-AD60-CA757281C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1FBB-ECFB-4B2B-BE76-A26FBCA6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6788-8326-45F6-A4A0-A115F8E3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AB7A-3A5C-4EFC-A961-2123264C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2904-0C77-477D-B41A-38281AAC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CA6F-509B-4DE9-B722-7ACB89A5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DEBD-D323-4B3D-96C5-598EBA7E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A137-B6DF-4D0B-8CAD-E4B75017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5577-0020-4B18-BEE1-9653BAAD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E2E7-CDB9-4B42-8C71-163C2357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A81B-3501-4345-B97E-2A688C5C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DB9A-0E5E-452A-81D0-01903226E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E67F-9E93-4CD0-B719-7B9E50E1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8E4D-7E83-4355-AEED-07AD5900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2411-AD46-4B14-B62A-8D5D25AB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7F78-94FB-4B8C-98AA-9E74D3FE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0000-3EAC-4795-BCF6-D08F5017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A892-46E5-421A-9610-A36A02B0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3903-38EF-4537-8098-148DF8C9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A31B-A5F9-4731-8D7A-6F671854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E8AC-CA43-4D40-B395-72384E36526C}" type="slidenum">
              <a:rPr b="0" lang="en-US" sz="1400" spc="-1" strike="noStrike">
                <a:solidFill>
                  <a:srgbClr val="1822c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63800" indent="-22392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00040" indent="-22392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35920" indent="-22392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1197-FCBF-4174-A2F2-FCA612350832}" type="slidenum">
              <a:rPr b="0" lang="en-US" sz="1400" spc="-1" strike="noStrike">
                <a:solidFill>
                  <a:srgbClr val="1822c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E 3173 Lecture 3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 Brief Review of C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Allocating Memory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Use malloc and free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lways make sure your malloc pairs up with a free, or your application leaks memory!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 *malloc(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size_t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 number_of_bytes)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ncluded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dlib.h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o you need to do two things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20600" indent="-21456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upp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_of_byte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020600" indent="-21456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Recast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*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returned to the appropriate type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020600" indent="-21456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hould return NULL if you request too much memory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free(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pointer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tructur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Custom-designed data types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struct_name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whatever;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somethingElse;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Then to instantiate: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ruct_name myStruct;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Generally like typedefs to simplify things.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de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ruct_na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stuff …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MYSTRUCT_T;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Then instantiation is just: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STRUCT_T myStruct;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Various and Sundry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ointer arithmetic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counter = 100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*pCounter = &amp;counter;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Counter++;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hat is the valu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Counter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his is very valuable for iterating through array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nline Assembl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an be done, depends on compiler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Various and Sundry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Linking files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#includ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file.h&gt;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is some kind of system library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he compiler knows where to look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.h”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is something you created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upply the relative path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.c”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is allowed, but terribly bad form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lways put a sequence of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fndef FILE_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define FILE_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05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in your .h files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Various and Sundry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Libraries you should know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tdlib.h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Lots of fundamental things. 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tdio.h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rintf, fprintf, etc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ath.h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xponents, square root, etc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ime.h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nything related to time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Various and Sundry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Generating random numbers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nclud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ime.h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rand(time(NULL));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yRandomNumber = rand();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yRandomNumber = rand() % 5;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rinting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dio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and function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printf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Various and Sundry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rinting to the scree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f(“String with %d tokens”, aDecimalNumber);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ther token specifiers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%d %i     Decimal signed intege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%x %X     Hex intege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%u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Unsigned intege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%c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Characte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%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String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%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doubl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Various and Sundry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onditional operator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? y : z;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 would explain it, but it’s stupid.  Don’t use it.  Ever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on’t 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. (unless it’s </a:t>
            </a:r>
            <a:r>
              <a:rPr b="0" i="1" lang="en-US" sz="2800" spc="-1" strike="noStrike">
                <a:solidFill>
                  <a:srgbClr val="000000"/>
                </a:solidFill>
                <a:latin typeface="Lucida Grande"/>
              </a:rPr>
              <a:t>absolutely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necessary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lways remember that variables are stored internally in binary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Use shift operators (&lt;&lt; and &gt;&gt;)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&lt;(^_^)&lt;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&lt;(^_^)&gt;    &gt;(^_^)&gt;   &lt;(^_^)&gt;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Dance, Kirby, dance!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hings You Can Do, But Shouldn’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Assignments in conditional statements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fopen == NULL)…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Use “Magic Numbers”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myVariable == 9)…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Use integers like bizarre Booleans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loopCounter) {…loopCounter--;}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Drop the braces on one line loops/if statements.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stopValue == STOP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f(“Stopping!”);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Use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 as your debug tool.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If you absolutely have to, 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err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instead 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out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imilariti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Other than aforementioned, C works mostly like Java and C++.  If you try it, it will probably work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ointers are the key.  If you can understand pointers, you’re ahead of the game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Lecture 3 Concept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You should know C coming into this class.  This is just a quick lecture to bring all that back for the lab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8520" indent="-30852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Basic data typ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8520" indent="-30852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llocating memor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8520" indent="-30852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ointer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8520" indent="-30852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tructur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8520" indent="-30852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 Few Software Engineering tip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Last Things</a:t>
            </a: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	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Obviously there’s a lot more to C than covered in 19 slides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Lots of good tutorials online and in books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 hasn’t really changed in 20 years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t’s a hugely valuable skill for a CpE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Basic Data Typ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- Integer.  Size depends on architecture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Variants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nsigned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Be careful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.  Not all compilers treat them equal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- Character.  8, 16, 32 bits (depending on character encoding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Variants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nsigned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gned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.  Why? 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Portability.  Different architectures default to different signed or unsigned representations of characters.  When your code may be run on a different platform, and  you’re doing funky things with the characters, be explicit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More Basic Typ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- Floating point.  Size usually depends on architecture. 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loats on microcontrollers may be flaky, depending on the existence of an FPU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- Double precision floating point.  Size is usually 2x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- Unassociated with a particular data type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- Boolean true/false. 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Only supported by C99 compilers, and require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dbool.h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header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Otherwise, just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define TRUE 0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…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Declaring &amp; Initializing Variabl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Varies somewhat between compilers, so be careful.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You can declare and assign on the same line: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j = 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 = ‘a’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i = 3.14;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You cannot declare a loop index inside the loop unless you’re using a C99 compiler.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 = 0; i &lt; 10; i++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Courier New"/>
              </a:rPr>
              <a:t>// Bad news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Things to watch out for: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Some compilers will not let you assign with the declaration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Some compilers force all variable declarations to be at the top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ome Other Variable Modifier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 - Only one instance, and it needs to stay in memory.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ounter(voi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nt = 0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nt++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Subsequent calls 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ounter 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will return increasing count values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volatile</a:t>
            </a: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 - Turns off compiler optimizations for this variable, especially caching in a register.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extern</a:t>
            </a: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 - If a variable is declared (with global scope) in one file but referenced in another, the extern keyword is used to inform the compiler of the variable's existence.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Array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0-based indexing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Off-by-one Erro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g Fault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eclaration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myArray[50]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Courier New"/>
              </a:rPr>
              <a:t>// Static Arra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*myArray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Courier New"/>
              </a:rPr>
              <a:t>// Dynamic Array, needs malloc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ccess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Element = myArray[10]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Courier New"/>
              </a:rPr>
              <a:t>// 11th elemen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tring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Just a character array -- no basic string type as in C++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eclaration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myString[80]; </a:t>
            </a:r>
            <a:r>
              <a:rPr b="0" lang="en-US" sz="2400" spc="-1" strike="noStrike">
                <a:solidFill>
                  <a:srgbClr val="00ff00"/>
                </a:solidFill>
                <a:latin typeface="Courier New"/>
              </a:rPr>
              <a:t>// 80 character static string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*myString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Courier New"/>
              </a:rPr>
              <a:t>// Dynamic string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Null-terminat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Be comfy with string.h function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ointer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ointers contain the </a:t>
            </a:r>
            <a:r>
              <a:rPr b="0" i="1" lang="en-US" sz="2400" spc="-1" strike="noStrike">
                <a:solidFill>
                  <a:srgbClr val="000000"/>
                </a:solidFill>
                <a:latin typeface="Lucida Grande"/>
              </a:rPr>
              <a:t>address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of a variable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at is the value of pThing?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pThing = (int *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llo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o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he system decides.  We don’t necessarily know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s this assignment okay?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Thing = myIntegerVariable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No!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pThing = myIntegerVariable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Thing = &amp;myIntegerVariable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Do these statements do the same thing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15:27:48Z</dcterms:created>
  <dc:creator>Christopher Cischke</dc:creator>
  <dc:description/>
  <dc:language>en-US</dc:language>
  <cp:lastModifiedBy>Christopher Cischke</cp:lastModifiedBy>
  <dcterms:modified xsi:type="dcterms:W3CDTF">2008-01-24T17:35:19Z</dcterms:modified>
  <cp:revision>10</cp:revision>
  <dc:subject/>
  <dc:title>EE 3173 Lecture X</dc:title>
</cp:coreProperties>
</file>