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880-EE98-413D-A3FE-CF58EA4C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2AD-1368-4956-9B85-AC555259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141-ACF1-48CF-9F0F-07419DEE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4E7-7514-472C-9911-43D78F28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6A09-FAFD-40CC-A065-139AA76C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C1E5-21C2-4072-9305-8518A24E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29B9-4882-41FA-BD9D-5E9C6999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8E9D-ED0A-4449-BDAA-6C8F9D7E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B4C1-644A-449B-B3EF-38E96193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C4A9-686D-49F8-B2AB-3AC647EA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4772-CFCF-466A-AC7A-B4754C09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A40-CAE5-4846-86AB-3DCDFF5B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7624-2389-436B-8914-978E7FB0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38A6-A017-4FB0-9AEE-4249E192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9A18-1DAF-46C1-8B5E-5E03F0EE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9D49-1035-4193-B2DB-BCDCC5A3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3671-AC23-49DB-ABFA-A0FE245E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895-8B2E-4AF8-9B6B-ED2AF8CD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47E-8EE1-4AEF-9733-7FF81EDD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736-A719-48BE-8EDB-CE30217C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B95-A153-476A-B572-E23A5736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533-B933-4E71-BCE3-D1E59E7F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BBB-096D-4DEB-9070-A639AE45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FC0-6266-45B6-B113-F57DCCC0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4379-296C-4FEF-86A6-84D940114742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95CD-65EE-4FEF-AC22-CF51AE4C0745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E 3173 Lecture 10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CS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urther SCSI Interfac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Ultra-2 SCSI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80 MB/s transfer, LVD signalling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Max cable length extended to 12 m, largely thanks to the LVD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idn’t last long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Ultra-3 SCSI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Upped transfer rate to 160 MB/s using DDR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ffered CRC instead of just parity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Ultra-320 SCSI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ata rate increased to 320 MB/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f you have a modern parallel SCSI device, it’s probably an Ultra-320 device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e Newest SCSI Interfac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ltra-640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etty much ignored, since cable lengths restricted the number of devices on the bus to about 1 or 2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rial SCSI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umerous standards have appeared that map the SCSI command set onto a serial transmission protocol including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erial Storage Architecture (SSA), Fibre Channel Arbitrated Loop (FC-AL), FireWire and Serial Attached SCSI (SAS)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n 1999, I worked at IBM on their FC-AL drives, and we were the black sheep.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nnecto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ddly enough, the SCSI standard has never described what the connector looks like.  Most parallel SCSI connectors ended up looking like this though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66880" y="3657600"/>
            <a:ext cx="40388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erminolog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Host Bus Adapter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: A translator from SCSI to PCI/EISA/whatever at the computer hos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Initiator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: Almost always the host adapter.  Kicks off the transfer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Target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: Almost always a peripheral.  Responds to the transfer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ipherals may need to act as Initiators, BAs may need to act as Target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re always must be one Initiator and one Target on a fully functional SCSI bu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evice Address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ach device has a SCSI ID that is 1 bi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t via jumpers or softwar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Ds are not encoded, so an 8-bit bus only allows for 8 total devices, one of which must be the HB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 device may have up to 8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Logical Unit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, each with a Logical Unit Number or LU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logical unit concept is as flexible as the rest of the standar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higher the SCSI ID, the higher the priority on the bu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HBA is normally 7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isconnect - Reconnec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ancy SCSI terms for split-transactions.  A long operation may cause the target to disconnect from the bus so that other devices may do their thing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en the operation is complete, the target reconnects, does the data transfer and terminat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ogical Block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CSI was primarily for storage, and when addressing a storage device, data storage locations were presented to the system as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Logical Block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, each with a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Logical Block Addres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(LBA)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max LBA is determined by a SCSI command called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Read Capacity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LBA shows up a lot in any given SCSI read/write command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CSI Device Typ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SCSI-1 defined 5 device classes: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1 - Random Acces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2 - Sequential Acces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3 - Print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4 - Process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5 - Write Once devi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6 - Read Only random acces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SCSI-2 Defined 4 additional classes: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6 - CD-ROM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(Replaced the old #6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7 - Scann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8 - Magneto Optical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9 - Medium Changer (Jukebox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10 - Communication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CSI-3 Device Typ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CSI-3 Redefined all of these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1 - Block Device (Magnetic &amp; Optical Disk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2 - Stream Devices (Tapes, Processor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3 - Graphic Devices (Printers, Scanner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4 - Medium Changers (Jukebox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5 - RAID Controll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6 - CD-RO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7 - Enclosures (Environmental Service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CSI Command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 command comes into a device in a CDB (Command Descriptor Block)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size of the CDB varies, but this basic format hold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yte 1: Op Cod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yte 2: LUN (Upper 3 bits only) and LB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ytes 3-5/9/11: LBA and transfer length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yte 6/10/12: Control By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10 Concep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CSI History, Development and Purpos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CSI Terms and Func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CSI Command Execu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CSI Hardwa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Future of SCS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mmand Phas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A Comprehensive list is: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rbitr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elec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Message Ou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Message I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omman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ata Ou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ata I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tatu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Bus Fre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The usual sequence of events is: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rbitr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elec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Message Ou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omman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ata In/Ou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tatu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Message In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mmand Linking/Queu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n the Control Byte of the CDB is the </a:t>
            </a:r>
            <a:r>
              <a:rPr b="0" i="1" lang="en-US" sz="3200" spc="-1" strike="noStrike">
                <a:solidFill>
                  <a:srgbClr val="000000"/>
                </a:solidFill>
                <a:latin typeface="Lucida Grande"/>
              </a:rPr>
              <a:t>Link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bit.  Multiple commands can be linked together so that an operation is not interrupted by another initiator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mand Queuing is when a device holds on to incoming commands and executes them in an optimal order.  Another optional functionality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CSI Bus Signa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BSY: Wired-OR that indicates bus activit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L: Wired-OR that selects a target (or re-selects an initiator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ntrol/Dat, In/Out, MSG: Driven by Target to move though various phases of the bu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EQ: Data strobe driven by the Targe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CK: Data strobe driven by Initiator in response to an REQ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TN: Driven by Initiator to indicate it has a message for the Targe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ST: Bus Reset lin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ATA: Umm, data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ARITY: Odd parity for the dat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IFFSENSE: Indicates whether the interface is HVD or LV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us Arbit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Independent Request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en a device wants the bus, it asserts the BSY line and the bit on the data lines associated with its SCSI ID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The highest priority device gets the bus, then begins the Selection phase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Other devices that lost back off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The target’s ID is asserted on the data lines and the SEL line is asserted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en the target notices, it drives the BSY line and the transaction proceeds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ata Transf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the ATN line is driven during the Selection phase, there is a Message Out phase where the target LUN of the target device is presented on the data bu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ptional in SCSI-1, mandatory in SCSI-2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mmand phase comes next, where the CDB is transmitted to the Targe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ata is actually transfer in the Data-In or Data-Out phases, depending on the nature of the transfer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mpleting the Transfer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 Status phase then follows where command completion status is reported to the Initiator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ommand is completed with a Message-In phase where the message is (hopefully) simply “Command Complete.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xample Write Comman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us Fre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Arbitration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80 (7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elect w/ATN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81 (0,7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Message-Out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C0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(Identify: LUN0 Disconnect OK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mand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0A 00 00 00 01 00 (Write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ata-Ou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00 00 00 00……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Message-In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04 (Disconnect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us Fre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Arbitration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01 (0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selection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81 (0,7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00 (Good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Message-In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/00 (Command Complete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us Free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at Just Happened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e Initiator (device 7) arbitrated for the bus and won.  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It selected device 0 and LUN 0 and indicated that disconnects were acceptable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e target saw that and was cool with it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e write command came across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en a bunch of data (not really shown)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e target sent a message of 0x04, indicating a disconnect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Eventually, device 0 arbitrated for the bus so it could indicate transfer completion to the initiator with a Reselection, a Good status and a Command Complete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294840" indent="-29484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What this indicates is that the target has a buffer of some sort, so it immediately took the data, let other devices use the bus while it was busy, and then indicated completion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n Example Rea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Bus Free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Arbitratio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80 (7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lect w/AT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81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0,7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essage-Out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C0 (Identify: LUN 0 Disconnect OK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mmand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08 00 00 10 20 00 (Read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essage-I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04 (Disconnect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Bus Free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Arbitratio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01 (0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selectio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81 (0,7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essage-I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80 (Identify: LUN 0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ata-I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00 00 00…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00 (Good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essage-In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00 (Command Complete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Bus Free</a:t>
            </a:r>
            <a:endParaRPr b="0" lang="en-US" sz="19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hat Read Operation in English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vice 7 arbitrated and wo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lected Device 0, LUN 0 and indicated disconnecting was okey-dokey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ssued the Read command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vice 0 said, “Aye-aye sir,” and disconnected to go get that dat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n the data was ready, the target arbitrated, won and reconnected to the initiator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t then sent the data, a Good status message and a Command Complete message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redi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uch of this slideset comes from the bookl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Basics of SCSI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, 4th Edition, written by Jan Dedek.  Published by Ancot Corporation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CSI’s Fu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As far as most people are concerned, the future of SCSI is serial.  Most eggs are in one of two baskets: SAS or FC-AL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Fibre Channel seems to be doing better, even though the SCSITA prefers SAS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eagate sells 20 different FC-AL drives, but 14 SAS drives (and &gt;40 parallel SCSI drives)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Hitachi GST sells their UltraStar server-class drives in U320 SCSI, SAS, and 2 different flavors of FC, pretty much equal-opportunity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ere’s also an iSCSI that operates over a standard TCP/IP connection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SCSI has always been a server-oriented protocol, and will continue to be, especially with PCI Express and SATA out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ecture 10 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CSI was designed for storage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t’s a loose standard, and has a lot of physical implementation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s a parallel standard, it’s almost entirely dead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s a serial standard, it’s flourishing still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tro to SCS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 Parallel Data Bus -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mput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ystem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terfa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History dates back to the Selector Channel on IBM-360 mainfram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caled down by Shugart Associates in the late 70’s to a disk drive interface and named “Shugart Associates Systems Interface” or SASI (pronounced “sassy”)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A pushed for standardization and after 4+ years in committee, SCSI was born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tandardized by ANSI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ccasionally referred to as SC/ASI in older document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CSI Standard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ny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SCSI, Fast Wide SCSI, Ultra SCSI, Ultra Wide SCSI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nly three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reatively named SCSI-1, SCSI-2, SCSI-3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intained by the SCSIT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t the standards are really just loose suggestions.  A manufacturer gets to pick and choose which parts of the standard a device complies to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CSI-1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8-bit parallel bus (with parity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Narrow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SCSI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unning asynchronously at 3.5 MB/s or 5 MB/s in synchronous mod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ximum bus cable length of 6 mete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us clock was 5 MHz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ximum of 7 devices (excluding HBA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y no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Grande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ynchronicit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Asynchronous transfers require each byte to be requested and acknowledged before the next one comes along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Generally used to “slow down” a fast device when communicating with a slower one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Synchronous transfers allow data to come out as fast as the bus allows, provided the transmitter respects the queue depth of the receiver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Synchronous mode is only for data.  Commands are still asynchronous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Communication with other devices on the bus may be mixed between synchronous and asynchronous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Synchronicity is negotiated between the two devices.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CSI-2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here it all begins to fall apart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Lucida Grande"/>
              </a:rPr>
              <a:t>Fast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 SCSI -- Any transfer rate above 5 MHz.  Usually designated Fast/10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bviously, Fast/10 had a 10 MHz clock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Lucida Grande"/>
              </a:rPr>
              <a:t>Wide</a:t>
            </a: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 SCSI doubled the data path to 16 bits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Also supports 15 devices (excluding HBA)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So we have Fast SCSI, Fast Wide SCSI, and vanilla SCSI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Cable length dropped to 3 m.  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lvl="1" marL="720720" indent="-27720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Bummer.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CSI-3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Last of the dinosaurs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Added a Fast/20, usually called </a:t>
            </a:r>
            <a:r>
              <a:rPr b="0" i="1" lang="en-US" sz="2500" spc="-1" strike="noStrike">
                <a:solidFill>
                  <a:srgbClr val="000000"/>
                </a:solidFill>
                <a:latin typeface="Lucida Grande"/>
              </a:rPr>
              <a:t>Ultra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So now we have SCSI, Fast SCSI, Fast Wide SCSI, Ultra SCSI and Ultra Wide SCSI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Cable length still just 3 m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Ultra SCSI had some serious reliability issues, mainly noise and interference sensitivity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No SCSI-4, because the interface was disassociated from the protocol at this point.  The command set has remained constant, but we’ve seen a huge number of physical interfaces.</a:t>
            </a:r>
            <a:endParaRPr b="0" lang="en-US" sz="25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5:11:35Z</dcterms:created>
  <dc:creator>Christopher Cischke</dc:creator>
  <dc:description/>
  <dc:language>en-US</dc:language>
  <cp:lastModifiedBy>Christopher Cischke</cp:lastModifiedBy>
  <dcterms:modified xsi:type="dcterms:W3CDTF">2008-03-05T17:16:11Z</dcterms:modified>
  <cp:revision>9</cp:revision>
  <dc:subject/>
  <dc:title>EE 3173 Lecture </dc:title>
</cp:coreProperties>
</file>