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9A52-9C87-4C6D-BAB8-1CBF5612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FDFF-F11C-4C71-8346-C56EAA69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0EC6-E20D-4B81-8AD5-EC433C79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7CF-4134-49D6-96A5-D229DDC2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7973-D8D5-4666-9E73-B91B9134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CE26-6259-4B00-BD1B-C031BF4A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4C47-6B04-409A-BA1A-2CA5A29D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047D-2465-4491-8DA4-51B55C15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E832-3F0E-4CC5-8E28-642FC4DF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5948-2257-4B19-B660-5AE358E4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B54F-0B23-4482-AC3E-BFB3AFFF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AD21-F648-47EB-89B8-EA255955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B502-EDAE-4662-BB59-E30BAB74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C077-2578-4906-99B7-1FF046A5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2809-7B91-4BA2-9FB1-AECB4507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8C48-214D-466F-B271-ACB99565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EDB0-DE84-4707-A4EA-5DC4D751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14A1-2189-4DC3-95B4-3E9F89D0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2FD-E2AB-4B0E-A5E6-A6AA1047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6386-09C0-415E-914D-0E304B69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5E4-45AB-48C3-97C3-688883B7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7F8D-A8DE-4019-A4D2-69709FC2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1DF-2083-4DCD-832E-68C9659B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8D4-65ED-47DF-8EA7-C59DA0D0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B1E6-9CDA-4F3B-A14C-F6D52A7D78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0B59-984C-4ED8-AD3A-E25B67221ED3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B031-0E75-425B-9796-428D649B60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87C9-F466-4414-B50D-99994AE92B82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E 3173</a:t>
            </a:r>
            <a:br>
              <a:rPr sz="4400"/>
            </a:b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ecture 11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hapter 7 – Input/Outpu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0338-C744-4D91-84DA-2AE5952305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/O Module Diagram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7666" t="13443" r="9840" b="23286"/>
          <a:stretch/>
        </p:blipFill>
        <p:spPr>
          <a:xfrm>
            <a:off x="1128600" y="1874880"/>
            <a:ext cx="68850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C2A2-D1CE-4843-B52C-61AAD0C78F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/O Hardware Model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put Port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ceives data from the incoming pins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kes it available to the data b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enerally does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latch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the dat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utput Port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ceives data from the data b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kes it available on the outgoing pin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Usually has a latch to hold the data for the devic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Value remains constant until a new value is outpu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5DF-ABFB-4A1E-9AC6-6F1D67822E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/O Synchroniz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/O Spe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/O devices are typical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Grande"/>
              </a:rPr>
              <a:t>much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slower than processor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an’t read from a device until it has the data read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an’t write to a device until it is ready to receive data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987840" indent="-20772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Usually when it is done processing the previous data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cessor must “synchronize” with I/O devic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evice sets a 1-bit “ready” flag when it is read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ocessor waits for flag to be set before accessing the por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lag is cleared when processor accesses the por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878-7C8B-453A-B216-C4C8452D38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/O Module Decision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ide or reveal device properties to CPU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upport multiple or single devi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trol device functions or leave for CPU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lso O/S decis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.g., Unix treats everything it can as a fi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EBA-9488-400B-82C6-93A3ACF444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ommand &amp; Status Register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lag is usually 1 bit of a “Command &amp; Status Reg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is register is part of the I/O por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t will have a different address than the data por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urposes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llow processor to read status info on the por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.g. Ready, Error, etc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llow the processor to write commands to the por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o alter the way the port behav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5EA-BAFB-4A10-A356-16C1C562C6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ypical I/O Por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04760" y="1874880"/>
            <a:ext cx="71326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1AD-A0A6-40CC-8E74-1E96874039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ios I/O Control Register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4777920"/>
            <a:ext cx="82296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Each control register for the I/O device is mapped into the address space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Allows for flexible operation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Polled or Interrupt I/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23760" y="1874880"/>
            <a:ext cx="7294680" cy="282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687E-4369-40CB-BE11-80F4ABCC33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/O Address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ypically, it is convenient to assign a part of the address space to I/O device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ll I/O devices must use that subset of address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xample, let 0x1000 - 0x103F be reserved for I/O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llow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Grande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= 64 unique I/O address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More than usually neede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ddress Decod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How to generate a unique enable/select for each device on the bu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Bus is a common/shared resource – address uniquely identifies location or memory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1D0-7299-4F4C-A6B8-D48ED02A59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ios Memory Map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04920" y="1874880"/>
            <a:ext cx="67327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4060-1F09-44A0-9318-4548A3D450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ree forms of I/O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Polled/Programmed I/O 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Processor enters a “polling loop” to read the ready flag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When the flag is set, then processor accesses por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Processor ends up waiting for the devic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Interrupt-Driven I/O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Ready flag is connected to an “Interrupt” pin on processo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When Pin = 1, the processor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Interrupts the current program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Calls an Interrupt Service Routine (ISR) to access the port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Returns to the previous program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DMA (Direct Memory Access)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SR supports control of an independent bus maste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4B1-DAEE-47BA-923C-7907BD89C7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hapter 7 Concep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put/Outpu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king the external bus hierarchy work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lock Diagram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emory Map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evice  control register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/O Programming model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olled / Programmed I/O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terrupt I/O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MA I/O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B9F-851E-4A47-BFD6-8B1B6FCA0B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/O Synchroniz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I/O Synchronization is determined by the programming model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Polled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Interrupt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DMA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I/O Synchronization is constrained by interface hardware between CPU/Controller and I/O Controller/Devices 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651200" y="1874880"/>
            <a:ext cx="4035600" cy="4525920"/>
            <a:chOff x="4651200" y="1874880"/>
            <a:chExt cx="4035600" cy="452592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4651200" y="1874880"/>
              <a:ext cx="4035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 txBox="1"/>
            <p:nvPr/>
          </p:nvSpPr>
          <p:spPr>
            <a:xfrm>
              <a:off x="4651200" y="1874880"/>
              <a:ext cx="4035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3568c7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13A-E509-4466-8C96-950D920A0A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Input of a Block of Data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3951"/>
          <a:stretch/>
        </p:blipFill>
        <p:spPr>
          <a:xfrm>
            <a:off x="1317600" y="1874880"/>
            <a:ext cx="65073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62E0-E3F7-4F43-907D-F0A17AB31A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87040" y="357120"/>
            <a:ext cx="58417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trum of I/O Data Transf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41520" y="1219320"/>
            <a:ext cx="8078760" cy="495360"/>
            <a:chOff x="641520" y="1219320"/>
            <a:chExt cx="8078760" cy="495360"/>
          </a:xfrm>
        </p:grpSpPr>
        <p:sp>
          <p:nvSpPr>
            <p:cNvPr id="152" name=""/>
            <p:cNvSpPr/>
            <p:nvPr/>
          </p:nvSpPr>
          <p:spPr>
            <a:xfrm>
              <a:off x="641520" y="1714680"/>
              <a:ext cx="807876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12320" y="1219320"/>
              <a:ext cx="864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67480" y="1219320"/>
              <a:ext cx="689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47440" y="1219320"/>
              <a:ext cx="172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rupt-driv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472080" y="3757680"/>
            <a:ext cx="2291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34720" y="660240"/>
            <a:ext cx="3174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ingle bus system assum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33520" y="1981080"/>
            <a:ext cx="8070120" cy="585360"/>
            <a:chOff x="533520" y="1981080"/>
            <a:chExt cx="8070120" cy="585360"/>
          </a:xfrm>
        </p:grpSpPr>
        <p:sp>
          <p:nvSpPr>
            <p:cNvPr id="159" name=""/>
            <p:cNvSpPr/>
            <p:nvPr/>
          </p:nvSpPr>
          <p:spPr>
            <a:xfrm>
              <a:off x="533520" y="1982880"/>
              <a:ext cx="13870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--  low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23440" y="1981080"/>
              <a:ext cx="1780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--  highest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10120" y="1984320"/>
              <a:ext cx="20088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--  moderate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04360" y="2666880"/>
            <a:ext cx="8232480" cy="838440"/>
            <a:chOff x="504360" y="2666880"/>
            <a:chExt cx="8232480" cy="838440"/>
          </a:xfrm>
        </p:grpSpPr>
        <p:sp>
          <p:nvSpPr>
            <p:cNvPr id="163" name=""/>
            <p:cNvSpPr/>
            <p:nvPr/>
          </p:nvSpPr>
          <p:spPr>
            <a:xfrm>
              <a:off x="504360" y="2676600"/>
              <a:ext cx="15789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--  no spe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i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66200" y="2666880"/>
              <a:ext cx="19706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--  intelligent I/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 DMA co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oller requi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70880" y="2666880"/>
              <a:ext cx="23119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--  hardware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vided in m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ndard CP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97160" y="3657600"/>
            <a:ext cx="8069760" cy="1092960"/>
            <a:chOff x="497160" y="3657600"/>
            <a:chExt cx="8069760" cy="1092960"/>
          </a:xfrm>
        </p:grpSpPr>
        <p:sp>
          <p:nvSpPr>
            <p:cNvPr id="167" name=""/>
            <p:cNvSpPr/>
            <p:nvPr/>
          </p:nvSpPr>
          <p:spPr>
            <a:xfrm>
              <a:off x="497160" y="3657600"/>
              <a:ext cx="18093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--  usual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s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PU cyc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59360" y="3660840"/>
              <a:ext cx="18075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--   fewest CP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ycl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i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00400" y="3675240"/>
              <a:ext cx="213372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--   may requ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y CPU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ycles 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 trans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16240" y="4754520"/>
            <a:ext cx="7958520" cy="1336320"/>
            <a:chOff x="516240" y="4754520"/>
            <a:chExt cx="7958520" cy="1336320"/>
          </a:xfrm>
        </p:grpSpPr>
        <p:sp>
          <p:nvSpPr>
            <p:cNvPr id="171" name=""/>
            <p:cNvSpPr/>
            <p:nvPr/>
          </p:nvSpPr>
          <p:spPr>
            <a:xfrm>
              <a:off x="3181680" y="4844880"/>
              <a:ext cx="215208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--  software can 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icky to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debu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6240" y="4754520"/>
              <a:ext cx="14922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--  si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op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43160" y="4768920"/>
              <a:ext cx="1731600" cy="13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--  must avo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a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th ca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virt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D3A3-C084-4F76-8F68-13531606F9BA}" type="slidenum">
              <a:t>2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olled I/O Step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PU checks I/O module device statu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/O module returns statu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f ready, CPU requests data transf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/O module gets data from devi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/O module transfers data to CPU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Variations for output, DMA, etc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21D-ED19-4257-9F7A-AB3A6462B4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olled/Programmed I/O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PU has direct control over I/O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nsing statu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ad/write comman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ransferring dat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PU waits for I/O module to complete oper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astes CPU tim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4B1F-8713-4EFF-A955-44D9956490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rogrammed I/O - Detail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PU requests I/O oper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/O module performs oper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/O module sets status bi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PU checks status bits periodicall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/O module does not inform CPU directl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/O module does not interrupt CPU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PU may wait or come back lat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9D07-3092-447C-A0FF-946E32AB8A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nterrupt Driven I/O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vercomes CPU wait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No repeated CPU checking of devi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/O module interrupts when read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3D1-FCE4-419E-B9B0-030A803752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nterrupt-Driven I/O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PU issues read comman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/O module gets data from peripheral whilst CPU does other wor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/O module interrupts CPU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PU requests dat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/O module transfers dat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7843-57F1-428E-AD2E-D8031A0839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Interrupt Process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13891"/>
          <a:stretch/>
        </p:blipFill>
        <p:spPr>
          <a:xfrm>
            <a:off x="2117880" y="1874880"/>
            <a:ext cx="49068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9594-920E-40D3-9511-94C33C3E9AD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PU Viewpoin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ssue read comman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o other wor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heck for interrupt at end of each instruction cyc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f interrupted:-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ave context (registers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cess interrup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etch data &amp; stor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e Operating Systems not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6956-B6DA-4001-B899-73E6AFCEC46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nput/Output Problem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ide variety of peripheral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elivering different amounts of dat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t different spee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 different forma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ll slower than CPU and RA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Need I/O modul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6F7-D37D-41D2-BCE4-E2F00AD79D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esign Issu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do you identify the module issuing the interrupt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do you deal with multiple interrupt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.e. an interrupt handler being interrupt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72D-300A-41F7-90AB-F76F1CDDFE0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dentifying Interrupting Modu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ifferent line for each modu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C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imits number of devic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oftware pol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PU asks each module in tur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257F-40B2-4AA2-85EE-4F4F268CD5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Identifying Interrupting Module</a:t>
            </a:r>
            <a:endParaRPr b="1" lang="en-US" sz="40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aisy Chain or Hardware pol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terrupt Acknowledge sent down a chai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odule responsible places vector on bu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PU uses vector to identify handler routin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us Mast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odule must claim the bus before it can raise interrup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.g. PCI &amp; SCSI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9DAF-E39E-4895-A8CC-A30EBEDC4E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ultiple Interrup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ach interrupt line has a prior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igher priority lines can interrupt lower priority lin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f bus mastering only current master can interrup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D1E-D22B-4535-98C5-5EA85341AEB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irect Memory Acces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Interrupt driven and programmed I/O require active CPU interven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ransfer rate is limit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PU is tied up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DMA is the answ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EA4-DC2C-49F1-AB62-ACDE7AD79A8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DMA Func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dditional Module (hardware) on bu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DMA controller takes over from CPU for I/O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675-E898-47A1-9A60-743AAECDA3A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irect Memory Acces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Interrupt driven and programmed I/O require active CPU interven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Transfer rate proportional to CPU overhea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PARALLELISM provides performanc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31400" indent="-21708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Dual processor – DMAC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31400" indent="-21708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Pipelining &amp; superscalar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DMA requires Additional Module (hardware) on bu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DMA controller takes over from CPU for I/O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927-35FA-42C5-B8CA-FEE3DABF4A7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DMA Oper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PU tells DMA controller:-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Read/Writ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Device addres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Starting address of memory block for dat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mount of data to be transferr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PU carries on with other wor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DMA controller deals with transf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DMA controller sends interrupt when finish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1DD-768E-4CE2-B565-968978A5041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DMA Transfer Cycle Steal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DMA controller takes over bus for a cyc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ransfer of one word of dat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Not an interrup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53760" indent="-2512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CPU does not switch contex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PU suspended just before it accesses bu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53760" indent="-25128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i.e. before an operand or data fetch or a data writ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1680" indent="-3016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lows down CPU but not as much as CPU doing transf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B9D-67FB-4CF5-81C3-73E83D8B277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General Microcomputer with DMAC</a:t>
            </a:r>
            <a:endParaRPr b="1" lang="en-US" sz="40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33400" y="1874880"/>
            <a:ext cx="56754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F0F-C6FB-4A9F-B1BE-2420FDA1322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xternal Devic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uman readab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creen, printer, keyboar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chine readab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onitoring and contro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2D, D2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UAR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etwork Interface Card (NIC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3579-D81E-470B-9886-CF8278EB7A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ew DMA-related Signal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Grande"/>
              </a:rPr>
              <a:t>Request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: Used by peripheral controller to inform DMAC that a DMA transfer is required.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Grande"/>
              </a:rPr>
              <a:t>Ack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: Used by DMAC to inform peripheral controller that DMAC has control of the system bus and that a new DMA bus cycle is starting.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Grande"/>
              </a:rPr>
              <a:t>Ready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: Handshake line from peripheral controller to DMAC to indicate that present word has been transferred.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Grande"/>
              </a:rPr>
              <a:t>Done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: Asserted by DMAC after the entire DMA transfer is completed.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Grande"/>
              </a:rPr>
              <a:t>DMA Request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: Asserted by DMAC to get control of the system bus from the CPU.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Grande"/>
              </a:rPr>
              <a:t>DMA Grant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: Asserted by the CPU to pass control of the system bus over to the DMAC.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Grande"/>
              </a:rPr>
              <a:t>IRQ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: Asserted by DMAC to alert CPU as to the end of the DMA transfer.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FBC5-68B3-4E47-A9B4-5C487EB0274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Generic DMA Protocol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33360" y="1874880"/>
            <a:ext cx="6675480" cy="4525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985480" y="6143760"/>
            <a:ext cx="28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pheral to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1B6-C771-4178-8680-17DA0C77460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Generic DMA Protocol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403280" y="1874880"/>
            <a:ext cx="6337440" cy="45259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974320" y="6141960"/>
            <a:ext cx="28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to Periph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01F-A069-41C9-B3E3-63DB3DF6ACF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610000" y="316080"/>
            <a:ext cx="4093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ve DMA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480" y="1252440"/>
            <a:ext cx="86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32200" y="1252440"/>
            <a:ext cx="66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12280" y="1201680"/>
            <a:ext cx="11934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35920" y="1192320"/>
            <a:ext cx="104724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66480" y="1001880"/>
            <a:ext cx="1048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11520" y="1192320"/>
            <a:ext cx="129564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1727280"/>
            <a:ext cx="95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1880" y="1727280"/>
            <a:ext cx="95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83040" y="1727280"/>
            <a:ext cx="988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89560" y="1727280"/>
            <a:ext cx="1336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62560" y="1727280"/>
            <a:ext cx="1035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0120" y="1727280"/>
            <a:ext cx="1338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49880" y="5537160"/>
            <a:ext cx="7622640" cy="307800"/>
            <a:chOff x="749880" y="5537160"/>
            <a:chExt cx="7622640" cy="307800"/>
          </a:xfrm>
        </p:grpSpPr>
        <p:sp>
          <p:nvSpPr>
            <p:cNvPr id="230" name=""/>
            <p:cNvSpPr/>
            <p:nvPr/>
          </p:nvSpPr>
          <p:spPr>
            <a:xfrm>
              <a:off x="749880" y="5537160"/>
              <a:ext cx="8017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823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59120" y="5537160"/>
              <a:ext cx="7452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03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72840" y="5537160"/>
              <a:ext cx="407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84200" y="5537160"/>
              <a:ext cx="407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46600" y="553716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78400" y="5537160"/>
              <a:ext cx="294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94000" y="3403440"/>
            <a:ext cx="7794360" cy="526680"/>
            <a:chOff x="594000" y="3403440"/>
            <a:chExt cx="7794360" cy="526680"/>
          </a:xfrm>
        </p:grpSpPr>
        <p:sp>
          <p:nvSpPr>
            <p:cNvPr id="237" name=""/>
            <p:cNvSpPr/>
            <p:nvPr/>
          </p:nvSpPr>
          <p:spPr>
            <a:xfrm>
              <a:off x="594000" y="3403440"/>
              <a:ext cx="117360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gnet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CB684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59120" y="3489120"/>
              <a:ext cx="7452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8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51320" y="3489120"/>
              <a:ext cx="474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01480" y="3489120"/>
              <a:ext cx="407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34000" y="347976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94240" y="3498840"/>
              <a:ext cx="294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80120" y="4851360"/>
            <a:ext cx="7625880" cy="317160"/>
            <a:chOff x="780120" y="4851360"/>
            <a:chExt cx="7625880" cy="317160"/>
          </a:xfrm>
        </p:grpSpPr>
        <p:sp>
          <p:nvSpPr>
            <p:cNvPr id="244" name=""/>
            <p:cNvSpPr/>
            <p:nvPr/>
          </p:nvSpPr>
          <p:spPr>
            <a:xfrm>
              <a:off x="780120" y="4860720"/>
              <a:ext cx="8017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8225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59120" y="4860720"/>
              <a:ext cx="7452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02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28640" y="4860720"/>
              <a:ext cx="294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01480" y="4851360"/>
              <a:ext cx="407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546600" y="485136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111880" y="4851360"/>
              <a:ext cx="294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833400" y="4089240"/>
            <a:ext cx="7572240" cy="526680"/>
            <a:chOff x="833400" y="4089240"/>
            <a:chExt cx="7572240" cy="526680"/>
          </a:xfrm>
        </p:grpSpPr>
        <p:sp>
          <p:nvSpPr>
            <p:cNvPr id="251" name=""/>
            <p:cNvSpPr/>
            <p:nvPr/>
          </p:nvSpPr>
          <p:spPr>
            <a:xfrm>
              <a:off x="833400" y="4089240"/>
              <a:ext cx="68904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823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11320" y="4165560"/>
              <a:ext cx="63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0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2520" y="4165560"/>
              <a:ext cx="407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46600" y="416556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111520" y="4165560"/>
              <a:ext cx="294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44760" y="4165560"/>
              <a:ext cx="46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.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75360" y="1951200"/>
            <a:ext cx="7730640" cy="307800"/>
            <a:chOff x="675360" y="1951200"/>
            <a:chExt cx="7730640" cy="307800"/>
          </a:xfrm>
        </p:grpSpPr>
        <p:sp>
          <p:nvSpPr>
            <p:cNvPr id="258" name=""/>
            <p:cNvSpPr/>
            <p:nvPr/>
          </p:nvSpPr>
          <p:spPr>
            <a:xfrm>
              <a:off x="675360" y="1951200"/>
              <a:ext cx="947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C68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28960" y="1951200"/>
              <a:ext cx="63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8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54760" y="1951200"/>
              <a:ext cx="8352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 MB/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50560" y="1951200"/>
              <a:ext cx="8229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6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46600" y="195120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11880" y="1951200"/>
              <a:ext cx="294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16320" y="2413080"/>
            <a:ext cx="7772400" cy="317160"/>
            <a:chOff x="616320" y="2413080"/>
            <a:chExt cx="7772400" cy="317160"/>
          </a:xfrm>
        </p:grpSpPr>
        <p:sp>
          <p:nvSpPr>
            <p:cNvPr id="265" name=""/>
            <p:cNvSpPr/>
            <p:nvPr/>
          </p:nvSpPr>
          <p:spPr>
            <a:xfrm>
              <a:off x="616320" y="2422440"/>
              <a:ext cx="1060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C684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59480" y="2422440"/>
              <a:ext cx="7452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8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2422440"/>
              <a:ext cx="294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984560" y="2422440"/>
              <a:ext cx="407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28680" y="241308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94600" y="2422440"/>
              <a:ext cx="294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16320" y="2932200"/>
            <a:ext cx="7789320" cy="317160"/>
            <a:chOff x="616320" y="2932200"/>
            <a:chExt cx="7789320" cy="317160"/>
          </a:xfrm>
        </p:grpSpPr>
        <p:sp>
          <p:nvSpPr>
            <p:cNvPr id="272" name=""/>
            <p:cNvSpPr/>
            <p:nvPr/>
          </p:nvSpPr>
          <p:spPr>
            <a:xfrm>
              <a:off x="616320" y="2941560"/>
              <a:ext cx="1060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C684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59120" y="2941560"/>
              <a:ext cx="7452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8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28280" y="2932200"/>
              <a:ext cx="294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01480" y="2932200"/>
              <a:ext cx="407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46600" y="293220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111520" y="2932200"/>
              <a:ext cx="294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8CA4-DED3-4437-A75D-C025F90D2D67}" type="slidenum">
              <a:t>43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DMA Configurations (1)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422280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ingle Bus, Detached DMA controll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Each transfer uses bus twi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I/O to DMA then DMA to memor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PU is suspended twi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rcRect l="12872" t="7666" r="12872" b="81484"/>
          <a:stretch/>
        </p:blipFill>
        <p:spPr>
          <a:xfrm>
            <a:off x="457200" y="2097000"/>
            <a:ext cx="8229600" cy="17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1847-1D4B-481D-A90F-C6B5029B3C3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DMA Configurations (2)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4611600"/>
            <a:ext cx="822960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Single Bus, Integrated DMA controller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Controller may support &gt;1 device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Each transfer uses bus once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DMA to memor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CPU is suspended once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rcRect l="12042" t="25033" r="13443" b="52174"/>
          <a:stretch/>
        </p:blipFill>
        <p:spPr>
          <a:xfrm>
            <a:off x="1558800" y="1874880"/>
            <a:ext cx="602640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FA8-8303-42E3-9899-FA53193E9D4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DMA Configurations (3)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467352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Separate I/O Bu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Bus supports all DMA enabled devices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Each transfer uses bus once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DMA to memor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lnSpc>
                <a:spcPct val="90000"/>
              </a:lnSpc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Grande"/>
              </a:rPr>
              <a:t>CPU is suspended once</a:t>
            </a:r>
            <a:endParaRPr b="0" lang="en-US" sz="23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rcRect l="12042" t="48918" r="13443" b="25033"/>
          <a:stretch/>
        </p:blipFill>
        <p:spPr>
          <a:xfrm>
            <a:off x="1824120" y="1874880"/>
            <a:ext cx="5495760" cy="276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C9B-AC8E-4948-B74E-86A43C3D80A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ecture 6 Summa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Various I/O Challeng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/O Synchroniz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oll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terrup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M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MA Nitty-Grit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D6CD-4B02-42DD-A0EA-8B047E6170C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Typical I/O Data Rat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2832"/>
          <a:stretch/>
        </p:blipFill>
        <p:spPr>
          <a:xfrm>
            <a:off x="1542960" y="1874880"/>
            <a:ext cx="605808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D40E-D49B-46E8-867D-A65FC39B0A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here to Draw the Box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9400" indent="-3294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put/Output – of What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11000" indent="-2739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ased on perspective/context of us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11000" indent="-2739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mplex systems are Partitioned at many level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94400" indent="-2185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ore/IP designer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94400" indent="-2185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hip/System-on-a-Chip designer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94400" indent="-2185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ystem/Chassis designer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94400" indent="-2185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oftware designer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11000" indent="-2739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 this Class – I/O refers to either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94400" indent="-2185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put/Output to/from the Nios processor cor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3" marL="1532160" indent="-21888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Times"/>
              <a:buChar char="•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Not necessarily off the FPGA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94400" indent="-21852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study of I/O operations and classification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AB6-9D48-4E56-8853-A16B074F95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Generic Model of I/O Modu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5420" t="16352" r="10926" b="21777"/>
          <a:stretch/>
        </p:blipFill>
        <p:spPr>
          <a:xfrm>
            <a:off x="2444760" y="1874880"/>
            <a:ext cx="42530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D78-D4EE-4E31-9BA6-BC3CE0B0C1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External Device Block Diagram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17461" t="21777" r="18511" b="36268"/>
          <a:stretch/>
        </p:blipFill>
        <p:spPr>
          <a:xfrm>
            <a:off x="2170080" y="1874880"/>
            <a:ext cx="48024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A04-0589-45BF-9052-B20D45177E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/O Module Func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trol &amp; Tim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PU Communic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evice Communic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ata Buffer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rror Detec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315C-B012-4DF6-A186-5613824D23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7T17:07:47Z</dcterms:created>
  <dc:creator>Brian T Davis</dc:creator>
  <dc:description/>
  <dc:language>en-US</dc:language>
  <cp:lastModifiedBy>Christopher Cischke</cp:lastModifiedBy>
  <cp:lastPrinted>2000-01-13T21:33:12Z</cp:lastPrinted>
  <dcterms:modified xsi:type="dcterms:W3CDTF">2008-03-17T15:42:13Z</dcterms:modified>
  <cp:revision>137</cp:revision>
  <dc:subject>EE3173</dc:subject>
  <dc:title>No Slide Title</dc:title>
</cp:coreProperties>
</file>