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ct" ContentType="image/x-pict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BAA-4CB6-4788-8EFC-4E441C12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CED-0A24-4EB1-86CC-241161B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253-C7EB-4FAC-9D4A-7CDD60B6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D70-8DBD-47F0-8E22-02445EE2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0CD1-FFB9-4694-945C-4DE7DF78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80F6-BE18-4D71-8A3E-58DEDFA0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59AA-9BAB-4F56-9BA7-6A104133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528-EEB6-4ECF-ADE5-22512E75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6CBD-65B6-47B0-8516-3BECB99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C57-7C39-4908-AD9B-7DB328E3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534-B673-4BD3-A08F-0561D00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C73-9564-4029-8B9D-0805A85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4425-7A52-4EC1-8906-6490D204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9AB0-AB6F-465C-B455-CC741C5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2BE-4302-4214-BF9E-82F6F1D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910-F5A6-44D6-B49A-8BCA3EB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B3EC-C10D-4022-94F6-13B8988D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191-6BF2-4187-896A-8ABACED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51D-4821-4E93-88FD-74A7F88C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D75-2CB3-4243-B1C4-78E212F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2F2-7590-458E-A1F0-4646EBE4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491-AB5E-490F-8800-9AEB879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F1A-5433-435C-9612-162D31B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AB8-C37D-43EE-A1B5-E0747B3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1877-A80F-48A5-9B1A-37B20FDDF9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683-10CC-4D59-AD75-160A85E7883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B27-CE8A-4EA2-9518-553020F394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DEE-FFED-412F-9D58-AB59F9509DE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cisig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8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CI, PCI 2.2, PCI-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9707-990A-4740-ACFA-F8B6A606F5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2.2 Specific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22280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Four possible PCI configuration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Currently 98+% of systems &amp; cards are slowest possible configuration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ore bandwidth is only needed for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gh speed networking (1 Gbit+ Etherne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AID (Redundant Arrays of Independent/Inexpensive Disks) controll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3040" y="1835280"/>
            <a:ext cx="2833560" cy="192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878440" y="1817640"/>
            <a:ext cx="2833920" cy="1920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473280" y="1874880"/>
            <a:ext cx="219564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451-FD47-48E3-9EC7-71457E00E7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- X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Previous generation Periphera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omponent Interconnect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andwidth approaching 1GByte/sec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perates at 64 bits, 3.3v signaling, 133 MHz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Legacy Cards will fit into PCI-X slot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Optimizations include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plit transactions and transaction-byte counts that improve the efficienc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ncreased utilization of bandwidth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educed power consumpti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18280" y="1833480"/>
            <a:ext cx="226548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498-271A-4C74-8949-C4B05234B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erformance Histo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0200" y="1865160"/>
          <a:ext cx="6481800" cy="452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865160"/>
                    <a:ext cx="64818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021-3AE3-45E0-A48C-D795B8691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&amp; Application Bandwidth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50800" y="1874880"/>
            <a:ext cx="6240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183-7719-47F1-8500-8E425F5EF8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Bandwidth Utiliz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"/>
          <p:cNvSpPr/>
          <p:nvPr/>
        </p:nvSpPr>
        <p:spPr>
          <a:xfrm>
            <a:off x="723960" y="5821200"/>
            <a:ext cx="76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Times New Roman"/>
              </a:rPr>
              <a:t>www.serverworks.com/technology/ pdf/PCI-X_2-0_WhitePaper.pd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54080" y="1874880"/>
            <a:ext cx="70358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452-091B-48F9-99A6-CF8462B6B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omencla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Initiato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= Bus Mas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= The Active Bus Sla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ransactio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= 1 transfer of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y contain multiple data ite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upports burst oper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= Active-low signal (e.g. IRDY# or TRDY#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CK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= PCI Bus Clock  (single phas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ynchronization Protocol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SSERT &amp; CLEAR all signals on falling edg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NSE (or sample) all signals on rising edg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46A-7B06-4CD2-8CAB-184D4FBC2E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erformanc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ery Flexible Protoc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do very complex oper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serve complex, sophisticated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eds several extra signal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mple ops may seem unnecessarily complex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urnaround Cyc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straint for lines with &gt;1 source (e.g. AD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st  wait 1 clock cycle before changing sour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1 idle cycle guarantees no conten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ample: AD lines on a “read” oper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01F-EF29-463A-A249-5C1D743882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in Layout for PCI Devi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8560" y="1874880"/>
            <a:ext cx="5546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36F-3BC1-4F49-9B56-66B58B0859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“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esting” Signal Lines - 1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Address/Data   (32 bits or 64 bit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eaning depends on “phase” of trans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ddress Ph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D carries address of “target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actly 1 address phase per trans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sts exactly 1 clock cyc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ata Ph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D carries 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y be sever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phases in 1 trans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ach data phase transfers one item (word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ultiple phases/transaction allow “burst” transfer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incidentally supports Intel “block move” instruc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679-85E4-45D4-9D87-A27869094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“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esting” Signal Lines - 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/BE# = Command/Byte Enable   (4-bits or 8-bit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uring Address Phase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nds command to target de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fines direction of transfer, type, duration,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ore details lat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uring Data Phase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icates which bytes of AD lines hold valid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mplifies communication with &lt; 32-bit devic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ave 1 C/BE#  bit for each byte of A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32-bit 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4-bit C/BE#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64-bit 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8-bit C/BE#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6CB-0B24-4D4E-AC65-5E3529B659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ca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uss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ynchronous, Asynchronous, Isochronou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otivations &amp; Timing Diagram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ignals – Valid times &amp; latching tim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us Arbitr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Bus Arbiter, Bus Master, Bus Slav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General Arbitration Sequenc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REQ, GNT, BSY signaling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entralized vs. Distribut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rbitration organization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se are not the only typ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Independent Request Arbitr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oll Counter Arbitr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Daisy Chain Arbitr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rror Detection and Corre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arity, ECC, Bit Stuffing, CRC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60B-8EBE-441B-9FEE-E2841FD40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“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esting” Signal Lines - 3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ransaction Synchronization Sign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FRAME#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(1 bi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ssert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Initiator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t start of trans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leared at start of final data phase of transa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DEVSEL#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(1 bi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ssert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when it recognizes its addres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icates targe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dev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ce has been 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sel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cted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287-7C8B-416E-9575-F09EC7922B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“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esting” Signal Lines - 4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ase Synchronization Sign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ows either partner to extend a pha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rts different speed devices (wait state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IRDY#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Initiator Ready  (1-bi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a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Initiator is ready to receive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ri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The  AD lines contain valid dat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TRDY#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Target Ready  (1-bi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a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The  AD lines contain valid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ri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Target is ready to receive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E40-472F-426C-8924-D5752A3805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1-Word Rea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9360" y="1874880"/>
            <a:ext cx="62438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13C-BF17-4811-B7C2-81A82E1FD1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Multi-word Rea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3 Data Ph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ither Initiator or Target can stretch data ph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RDY# &amp; TRDY# sign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sum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rget needs to stretch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data ph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itiator needs to stretch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Grande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data ph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at brings us to Stallings, Fig 3.22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D43-ABFE-4083-B5B7-F43BB374C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Read - Wavefo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886" t="1441" r="2831" b="3628"/>
          <a:stretch/>
        </p:blipFill>
        <p:spPr>
          <a:xfrm>
            <a:off x="1384200" y="1874880"/>
            <a:ext cx="6375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739-A978-41E1-B5F9-1DF07C0731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Read - Events Sequenc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a) Init: assert address, C/BE (command), FRAM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b) Tar: recognize its address (no changes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c) Init: clear AD (turnaround), assert C/BE, IRDY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d) Tar: assert data, DEVSEL and TRDY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e) Init: latch data and set C/BE for next item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f) Tar: clear TRDY, wait til ready, assert TRDY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g) Init: clear IRDY (due to internal stall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h) Init: set IRDY, clear FRAME for final item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84400" indent="-2844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(i)  Init: clear IRDY, CB/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    Tar: clear AD, TRDY, DEVSEL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11B-43E1-4B8B-BB1C-530D9A812A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Wri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81240" y="1874880"/>
            <a:ext cx="65815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25E-4B25-472D-9667-0C42B63886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Write Sta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AME# is asserted along with a bus command and address dat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data immediately follows the address (no turn-around cycle!) and IRDY# and TRDY# are assert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is transferred as long as IRDY# and FRAME# are assert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n both IRDY# and FRAME# are deasserted, then the transaction is complet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AF8-DBC0-4A20-9F33-114B669A63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Bus Commands Overvie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Bus Command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trol Commands (special operation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/O Commands (Intel separated address space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mory Read Commands (incl. burst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mory Write Commands (incl. burst &amp; cache coherency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figuration Commands (for startup config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PCI Bus Arbitratio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dependent Request scheme (REQ# &amp; GNT#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 BSY line. Uses {FRAME# OR IRDY#}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es “Hidden Arbitration”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rbitrates next master during current transac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rbitration priority not a part of the bus spec!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F6C-1E7A-424D-B692-5622691023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Comman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5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trol Comman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Interrupt Acknowled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Special Cyc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identifie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broadcas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Dual Address Cyc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part of a 64-bit addres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5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/O Commands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44280" indent="-19872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tel legacy architecture uses separated address space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44280" indent="-19872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us we need separate I/O instructions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44280" indent="-19872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ich issues separate I/O commands to the bu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I/O Rea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I/O Writ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FB8-1434-40A0-9EFB-39416BDA40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Technolog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Many proprietary buss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valon (Nio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Control/Address/Data bus (PC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Unibus (DEC-PDP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icroChannel Architecture (MC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IBM PS/2 Disaste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Drive for Standardization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CI – Peripheral Component Interconnec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PI – Serial Peripheral Interconnec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duced development cos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No need to write standar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Re-use of IP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abless compani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ab provided design environme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ab = Circuit Fabrica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A70-FAB1-419C-9CEA-0F28F26EE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Comman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oot Command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11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CI devices are not hardwired to addresses and IRQ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11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evices contain addressable “configuration” reg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11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oot routine can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998640" indent="-210240">
              <a:lnSpc>
                <a:spcPct val="11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ad configuration regs to ID device type and nee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98640" indent="-210240">
              <a:lnSpc>
                <a:spcPct val="11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rite to configuration regs to initialize the dev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11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reatly facilitates “plug and play”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11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Configuration Read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11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Configuration Writ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656-1A06-4AD1-BC97-8F39524D57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Comman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emory Read Command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ce upon a time PCI was fast enough for a system bu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as memory access instruc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cludes support for cache block opera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emory Read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p to 2 data phases in the transa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ant for 1 word LOAD (incl. double precision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emory Read Lin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or 3-12 data phases in the transa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ant for up to 3 cache li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emory Read Multipl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or &gt;12 data phases in the transa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ant for &gt;3 cache li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461-FC7D-4F37-A1D6-C1AE2907DC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Comman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emory Write Comman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Memory Wri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lain old vanilla writ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rts plain old vanilla STORE instru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 also have multiple data phas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Memory Write Invalid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eant to support cache write-back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5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seful for multiprocessor syste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5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n a write is executed by one processo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5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ows cache lines to be invalidated in other proc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5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aintains cache coherence between processo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1F5-9636-4033-A82A-E5148051E7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Bus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ses Independent Request Arbitra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gnals are REQ# and GNT#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EQ# and GNT# are point-to-point (private) lin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Number of signals is installation dependen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Ownership only lasts for one Transac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urrent owner must re-arbitrate to get next transacti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t we can extend the transacti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ses “Hidden Arbitration”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rbitration for cycle N occur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during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cycle N-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No time is wasted arbitrating between transactions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only delay is the 1 cycle turnaround on A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A96-E7F9-420B-96C1-F88EA98E70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rbitration Sign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CI has no BSY sig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bines FRAME# and IRDY# to act as a BSY#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RAME# brackets the trans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t is asserted immediatel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t is cleared 1 cycle before end of trans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RDY#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“data is valid” or “ready to receive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t is asserted at some point after address pha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t is cleared at end of last data cycl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gically:  BSY# = FRAME#  OR  IRDY#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us, if either is low, then the bus is bus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BC5-2008-4F7C-A0C5-4C204544AD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Arbitration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63840" y="1874880"/>
            <a:ext cx="6014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507-F4E4-46F3-87E4-79CCE768FE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Arbitration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wo units, A &amp; B each want to execute a 1-word writ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a) REQ#_A is previously low (active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b) Unit B asserts REQ#_B, bu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c) Arbiter has already decided to grant GNT#_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d) A sees GNT#_A &amp; asserts FRAME#, Addr, C/BE#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e) Arbiter sees FRAME# = BSY# &amp; arbitrates the n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     transaction, asserting GNT#_B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f) Meanwhile, back at the current transaction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 asserts IRDY and the data for the data phas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 clears FRAME (beginning of last data phase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Target asserts TRDY# for the data phas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g) B sees GNT#_B &amp; asserts FRAME#, Addr, C/BE#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9C7-975E-47C2-9A87-5DED3A23C4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in Features of PCI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-Speed I/O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s once fast enough for a system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2/64 bit synchronous multiplexed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ock speed evolution: 3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6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133 MHz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signed for burst data transf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4-bit command specifies operation (C/BE#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nsaction sync signals (FRAME#, DEVSEL#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ata Phase sync signals (IRDY#, TRDY#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9E4-43BC-4801-8B12-7644F1740D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feren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[1] Syred Data Systems, What is PCI?, unpublished white paper, July 18, 1999, http://www.syred.com/articles/PCI.pdf  (current Mar 2002)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[2] Quatech Inc, Data Communication Introduction, http://www.quatech.com/figures/com_ov2001.pdf  (current Mar, 2002)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820-468F-459C-9229-BC6A39291A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Inter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ll interconnections are possibl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iffer in the cost and bandwidth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sses appropriate for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SB: high-speed, many signal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CI: In-case peripheral interconnec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USB: Few signals, longer cables, more devic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ome high-bandwidth chip-to-chip Protocol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rapahoe/3GIO (Became PCI Express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HyperTranspor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nfiniband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apidIO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0F3-D729-4BC8-A16A-9F36D056E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Introdu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CI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ripher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mpon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terconne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signed as a high-speed I/O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ed by Int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eded high bandwidth bus for Pentium syste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signed to be “processor independent”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ut has several classic Intel featu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signed to need minimum of “support” chi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ostly “bridges” to other busse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ublic Domain Bus Archite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CI SIG = PCI Special Interest Group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governing body for PCI specific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09C-75A2-453A-8CD9-320957317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PCI B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ppropriate for in-case periphera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NI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Mass storage controll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ata acquisition de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ynchronous: single phase cloc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us width: 32-bits or 64-bi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ltiplexed Address/Data Lines  (AD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ddress and data use the same physical lin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ust send address and data sequentiall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 the “old days” chip pins were at a premiu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ed to minimize number of pins / chip packag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40C-D0A1-457F-AE38-FA61F941E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’m Sure This Means Someth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914480"/>
            <a:ext cx="822960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822-FD11-42B6-B898-BCD6FDE3A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mple System Appl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CI is a mid-level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chassis – high speed signa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ide bus 32/64 bi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strained # of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mited lengt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2747880"/>
            <a:ext cx="4038480" cy="27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C11-45C9-43C9-B963-6AD55F36E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CI Specification Histo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www.pcisig.co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sts $2500 to join for specification, many documents available for fre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riginal (1992) 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33 MH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Ver 2.1 (1995)   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66 MH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Ver 2.2  primarily a clarification of 2.1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lso implements “hot plug” spec for on-line swapping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CI-X (1999)    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33 MHz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Ver 3.0 clarify PCI-X &amp; changes made since 2.2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CI Express (first devices 2004)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2.5 GHz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erial – no longer slot-backwards compatibl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calable bandwidth – using variable width configurations (# lanes)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Low-Profile PCI = smaller card profil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ini-PCI = laptop &amp; other mobile application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mpact-PCI = Ruggedized for embedded system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8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expensive &amp; slow (33MHz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EA5-938A-4EF7-8BF0-E09499C2F8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7:07:47Z</dcterms:created>
  <dc:creator>Brian T Davis</dc:creator>
  <dc:description/>
  <dc:language>en-US</dc:language>
  <cp:lastModifiedBy>Christopher Cischke</cp:lastModifiedBy>
  <cp:lastPrinted>2000-01-13T21:33:12Z</cp:lastPrinted>
  <dcterms:modified xsi:type="dcterms:W3CDTF">2008-02-22T18:14:49Z</dcterms:modified>
  <cp:revision>135</cp:revision>
  <dc:subject>EE3173</dc:subject>
  <dc:title>No Slide Title</dc:title>
</cp:coreProperties>
</file>