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62320" cy="366480"/>
          </a:xfrm>
          <a:prstGeom prst="rect">
            <a:avLst/>
          </a:prstGeom>
          <a:noFill/>
          <a:ln w="0">
            <a:noFill/>
          </a:ln>
        </p:spPr>
        <p:txBody>
          <a:bodyPr lIns="20880" rIns="20880" tIns="0" bIns="0" anchor="t">
            <a:noAutofit/>
          </a:bodyPr>
          <a:p>
            <a:pPr marL="216000"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5438880" y="-1440"/>
            <a:ext cx="4162320" cy="366480"/>
          </a:xfrm>
          <a:prstGeom prst="rect">
            <a:avLst/>
          </a:prstGeom>
          <a:noFill/>
          <a:ln w="0">
            <a:noFill/>
          </a:ln>
        </p:spPr>
        <p:txBody>
          <a:bodyPr lIns="20880" rIns="208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fld id="{0AF0EC4E-5730-4FD5-9B89-83CEEF13C575}" type="datetime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2982600" y="555120"/>
            <a:ext cx="3639960" cy="273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move the slid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1277640" y="3474720"/>
            <a:ext cx="7047000" cy="3289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20880" rIns="208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20880" rIns="208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fld id="{E94F1EE5-9469-431A-9413-BC41CEF90EF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38880" y="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-144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1440" y="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1277640" y="3473280"/>
            <a:ext cx="70405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ldImg"/>
          </p:nvPr>
        </p:nvSpPr>
        <p:spPr>
          <a:xfrm>
            <a:off x="2979720" y="554040"/>
            <a:ext cx="3643200" cy="2732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4F1C-F2C9-4C0B-831C-DC9B62F9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A8E0-B4EE-4014-908C-8B56D839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C82F-0A32-42FC-B1D2-4FF2A0AA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57D-C51E-44D4-8B43-7EA86001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2BFA-F355-4D4E-9313-06797D64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BBC7-C271-4092-9B34-042A54D2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9F7C-AF47-4D3C-AF7E-75D2C70B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B093-56BF-41A8-89DE-884BA7A8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60D9-EB34-441A-84F6-B0B74B83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E68C-56B8-47F3-A6A7-7D8C56DD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9C12-ABC2-433C-982F-FA609FBD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1E82-B838-40EF-A275-A2247406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E26F-07D9-4D49-A6EE-29BD3866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4A51-33E4-49A7-B05B-655E1641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A05A-C2B2-4A13-A0A3-225A0CCF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4349-2020-4D48-802E-59614CE9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7F05-6C76-4073-BC44-A22F8CBA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CB7-3E36-48BB-B2D3-97149589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245-6F7C-43C3-887C-A41C5296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677F-2313-40F0-A019-13F08D0E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ED0-3B34-4A8A-ADB7-5BF996CD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EF32-144A-4CF8-BD48-D7F85D51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F3C-50A4-4438-B1C9-E252F1BA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DD2-75DD-4A31-B66B-89718CBF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DF67-6F24-45B6-95CA-E5B104AA066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F907-19E2-45B4-90A6-61260BB0B1F1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3712-4D75-4F9C-8EDD-18ABA04BD44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FFDD-1820-49E3-AACB-6BA7AA3C1BD6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E 3173 Lecture 5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hapter 3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6D68-B2CE-413E-9742-DD4763FED0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ultiple Interrupts – Nested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47773" r="0" b="8718"/>
          <a:stretch/>
        </p:blipFill>
        <p:spPr>
          <a:xfrm>
            <a:off x="1514520" y="1874880"/>
            <a:ext cx="61149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EC6-E013-484A-B81F-36B179D101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Lucida Grande"/>
              </a:rPr>
              <a:t>Time Sequence of Multiple Interrupts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4394" t="14708" r="19699" b="33335"/>
          <a:stretch/>
        </p:blipFill>
        <p:spPr>
          <a:xfrm>
            <a:off x="1225440" y="1874880"/>
            <a:ext cx="66931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E882-5911-4DF4-89F4-0C6D4022B0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Interconnec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ll the units must be connec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Different type of connection for different type of uni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Input/Outpu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215-7EBE-4CE5-BEA4-F8F9881502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Computer Modul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ach Module has Inputs and output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ome signals are shared I/O (typically data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se functional blocks are used in: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ystem Level Diagram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Quartus Block Diagram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Describing the functional Unit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22551" t="9848" r="24510" b="15908"/>
          <a:stretch/>
        </p:blipFill>
        <p:spPr>
          <a:xfrm>
            <a:off x="5545080" y="1874880"/>
            <a:ext cx="224496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F23-AE70-4A7A-9B29-8C0CA189F0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Memory Connec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Receives and sends dat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Receives addresses (of locations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Receives control signals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Writ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50B9-62D5-4902-8419-485F4E5396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Input/Output Connec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imilar to memory from computer’s viewpoin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Receive data from comput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Send data to periphera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Receive data from periphera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Send data to comput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0661-F82C-4E92-9421-115D13C8E4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Input/Output Connec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Grande"/>
              </a:rPr>
              <a:t>Receive control signals from computer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Grande"/>
              </a:rPr>
              <a:t>Send control signals to peripherals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e.g. spin disk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Grande"/>
              </a:rPr>
              <a:t>Receive addresses from computer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e.g. port number to identify peripher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Grande"/>
              </a:rPr>
              <a:t>Memory Mapped I/O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I/O devices are addressed through conventional Load/Store instructions to the normal address spac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Grande"/>
              </a:rPr>
              <a:t>Separate I/O address space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Separate I/O instructions access an I/O device only address spac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CC41-FF69-4EF8-9245-B0B3A1448B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CPU Connec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Reads instruction and dat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Writes out data (after processing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Sends control signals to other uni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Receives (&amp; acts on) interrup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AA9-71DA-4909-A910-7CE0D730F9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Bus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There are a number of possible interconnection system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Single and multiple BUS structures are most comm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e.g. Control/Address/Data bus (PC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e.g. Unibus (DEC-PDP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8D93-CEB9-4464-819A-F1F3FABC91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What is a Bus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A communication pathway connecting two or more devic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Usually broadcast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Often group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 number of channels in one b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e.g. 32 bit data bus is 32 separate single bit channel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nd frequently, 32 individual conductor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Power lines may not be show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0A4C-119E-4C85-BB10-5E37901A76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hapter 3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Into Chapter 3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Description of th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proc-based system as an interconnection of functional block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High level view of Computer Function &amp; Interconnection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Interrupt sequencing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Fundamental Components &amp; interconnection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PCI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Other bus technology example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Grande"/>
              </a:rPr>
              <a:t>Supplemental Reading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Grande"/>
              </a:rPr>
              <a:t>www.pcguide.com/ref/mbsys/buses/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Grande"/>
              </a:rPr>
              <a:t>www.pcguide.com/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FB03-CFFB-496B-A2F1-4B6BA67D69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Bus Interconnection Schem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422280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Grande"/>
              </a:rPr>
              <a:t>What do buses look like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Big and Yellow with wheel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Parallel lines on circuit board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Ribbon cabl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Strip connectors on mother board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987840" indent="-20772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Grande"/>
              </a:rPr>
              <a:t>e.g. PCI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Sets of wir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30485"/>
          <a:stretch/>
        </p:blipFill>
        <p:spPr>
          <a:xfrm>
            <a:off x="1027080" y="1874880"/>
            <a:ext cx="7089840" cy="217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484960" y="3924360"/>
            <a:ext cx="2601720" cy="195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5DF-7D9E-4E72-95F4-DE0CE142EF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Data componen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arries dat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Remember that there is no difference between “data” and “instruction” at this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Width and switching frequency are key determinants of performan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synchronous vs. synchrono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8, 16, 32, 64 bi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33, 100, 166 MHz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Double Data Rate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E75-1287-4F9E-91C0-BD1FB6913F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Address Componen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Identify the source or destination of dat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.g. CPU needs to read an instruction (data) from a given location in memo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Bus width determines maximum memory capacity of system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e.g. 8080 has 16 bit address bus giving 64 kbyte address spac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Nios uses a 32 bit address space, providing for a 4 Gbyte address spac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0EE-0B0E-4571-A9B1-9B1F86E38C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Control componen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Control and timing inform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lock signal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Reference voltag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Memory read/write sig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Parity or Correcting Cod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Interrupt reques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5F8-4110-4998-BC73-5D01E0932F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Single Bus Problem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Lots of devices on one bus leads to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Propagation delay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Long data paths mean that co-ordination of bus use can adversely affect performanc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If aggregate data transfer approaches bus capac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Most systems use multiple buses to overcome these problem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9BC8-DE91-4286-9298-F936FEA895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Bus Typ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Grande"/>
              </a:rPr>
              <a:t>Dedicated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Grande"/>
              </a:rPr>
              <a:t>Separate data &amp; address line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Grande"/>
              </a:rPr>
              <a:t>Split –Transaction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Grande"/>
              </a:rPr>
              <a:t>Between REQ_A and RSP_A the bus can be used for other activities. 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Grande"/>
              </a:rPr>
              <a:t>Multiplexed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Grande"/>
              </a:rPr>
              <a:t>Shared line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Grande"/>
              </a:rPr>
              <a:t>Address valid or data valid control line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Grande"/>
              </a:rPr>
              <a:t>Advantage - fewer line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Grande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More complex contro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Ultimate performanc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45B-5DF7-4B96-A3DD-90E68CADCE3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Lucida Grande"/>
              </a:rPr>
              <a:t>Traditional (ISA) (with cache)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5610" b="62474"/>
          <a:stretch/>
        </p:blipFill>
        <p:spPr>
          <a:xfrm>
            <a:off x="896760" y="1874880"/>
            <a:ext cx="73504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9FE0-CCB8-4174-8B57-48239373ABD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High Performance Bu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43146" r="0" b="10004"/>
          <a:stretch/>
        </p:blipFill>
        <p:spPr>
          <a:xfrm>
            <a:off x="1452600" y="1874880"/>
            <a:ext cx="62388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56E-A8C3-4627-980A-7FEC2C729A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ulti-Bus Hierarchi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28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imits the size of each bu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onger/larger busses have higher capacitanc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ncreases the aggregate bandwidth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duces the cost of devices on slow buss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nables increased performance in critical or point-to-point buss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6859-827C-48F9-9571-80382F5602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Workstation Bus Architectur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onceptual diagram for workstation bus architectur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North/South bridge by convention onl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ach bus has a throughput associated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Higher level busses (FSB) should be capable of handling the combined bandwidth of lower buss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008680" y="1874880"/>
            <a:ext cx="331776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1414-C1EA-462F-A22E-815D305D080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omputer Componen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ll computers have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ne view of a CPU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5883" t="9092" r="6865" b="27273"/>
          <a:stretch/>
        </p:blipFill>
        <p:spPr>
          <a:xfrm>
            <a:off x="4648320" y="2021040"/>
            <a:ext cx="4038480" cy="423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DC95-31F0-43CA-A5FE-D8F1D379C9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Front Side Bu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791240" y="1019160"/>
            <a:ext cx="3903480" cy="292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1535040" y="4554360"/>
          <a:ext cx="6848280" cy="2009880"/>
        </p:xfrm>
        <a:graphic>
          <a:graphicData uri="http://schemas.openxmlformats.org/drawingml/2006/table">
            <a:tbl>
              <a:tblPr/>
              <a:tblGrid>
                <a:gridCol w="1712880"/>
                <a:gridCol w="1711080"/>
                <a:gridCol w="1713240"/>
                <a:gridCol w="171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p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SB Fre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SB BandWid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tium 4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orthwoo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l 845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a P4X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ck 133 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533 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 GB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hlo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horoughbr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a KT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ck 166 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333 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6 GB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tium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l 8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 (x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64 GB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457200" y="1219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276800" cy="26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Each bus is unique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o a processor or a N.Br &amp; S.Br chipse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Requirement to have differing BW levels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Bandwidth of DRAM interface is RH bus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7CD-67C5-4905-8F5A-86F38A19EC5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What is a Chipse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Interconnecting “glue logic” 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Determines “feature set” of motherboard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DRAM type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Hard drive type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Does not completely determine performance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Typically has a maximum processor frequency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17520" y="4029120"/>
          <a:ext cx="8294760" cy="2138400"/>
        </p:xfrm>
        <a:graphic>
          <a:graphicData uri="http://schemas.openxmlformats.org/drawingml/2006/table">
            <a:tbl>
              <a:tblPr/>
              <a:tblGrid>
                <a:gridCol w="1036440"/>
                <a:gridCol w="1258920"/>
                <a:gridCol w="1258920"/>
                <a:gridCol w="1185840"/>
                <a:gridCol w="1184400"/>
                <a:gridCol w="1185840"/>
                <a:gridCol w="1184400"/>
              </a:tblGrid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pset Desig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l 8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l 8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D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a KT266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vidia nForc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0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 6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or 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tium 4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l Socket 423 or 4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tium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l FC-PGA (370 pi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hlo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ket A/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hlo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ket A/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hlon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ket A/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tium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al Rambus Channel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grated Graph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DDR266 Chip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grated GeForce2 Graphics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al DDR Busse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s DDR333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PC24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114-D16E-43DF-AD25-BC8118BCB53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AMD 760 Chipset Specificall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455840" y="1874880"/>
            <a:ext cx="62323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972-D948-45E8-9228-350DC526E5D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erver Bus Hierarch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320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DRAM controller on CPU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Hypertransport – more later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Multiple Paths for data - parallelism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657600" y="2041560"/>
            <a:ext cx="5029200" cy="419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321-59EC-4B3C-BD5F-AA9F5B8C88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Tim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Grande"/>
              </a:rPr>
              <a:t>Coordination of events on bus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Grande"/>
              </a:rPr>
              <a:t>Asynchronous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No clock signal to synchronize event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Grande"/>
              </a:rPr>
              <a:t>Synchronous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Events determined by clock signal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Control Bus includes clock lin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All devices can read clock lin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Usually a single cycle for an even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Isochronous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Variable amount of data in sequence of fixed size packets at regular interval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Reduced overhead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Desired outcome: Quality of Servic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30BD-322D-4C94-A62E-B743AB9CDC3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Synchronous Timing Diagram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2701" t="22727" r="26444" b="32578"/>
          <a:stretch/>
        </p:blipFill>
        <p:spPr>
          <a:xfrm>
            <a:off x="2430360" y="1874880"/>
            <a:ext cx="42814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9CA-0DCF-481C-B34B-38C9A843567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Lucida Grande"/>
              </a:rPr>
              <a:t>Asynchronous Timing – Read Diagram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8773" t="10116" r="23500" b="61365"/>
          <a:stretch/>
        </p:blipFill>
        <p:spPr>
          <a:xfrm>
            <a:off x="836640" y="1874880"/>
            <a:ext cx="74707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DC57-44AC-40CE-B45A-20966B1610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Lucida Grande"/>
              </a:rPr>
              <a:t>Asynchronous Timing – Write Diagram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8773" t="46972" r="23500" b="25000"/>
          <a:stretch/>
        </p:blipFill>
        <p:spPr>
          <a:xfrm>
            <a:off x="770040" y="1874880"/>
            <a:ext cx="76024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2A8B-075D-4D08-9A3E-82E136DF527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851120" y="4610160"/>
            <a:ext cx="17888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sochronous Tim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In network theory isochronous means constant time (as in constant time between packets)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In sampling theory isochronous sometimes means at the same time.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62240" y="3656160"/>
            <a:ext cx="4619520" cy="274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E7C-5715-406D-8363-E80022766F1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Bus Arbitr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 fontScale="91000"/>
          </a:bodyPr>
          <a:p>
            <a:pPr marL="312120" indent="-31212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DEF:  The process of selecting a new bus master.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Participants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Bus Control Unit (BCU) 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2" marL="987840" indent="-207720"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entral Arbiter of Bus Ownershi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987840" indent="-207720"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May or may not be CPU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Bus Units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2" marL="987840" indent="-207720"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ll devices whic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Grande"/>
              </a:rPr>
              <a:t>could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be the bus master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3 basic control signal types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aco"/>
              </a:rPr>
              <a:t>REQ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 = Bus Request.   (Bus Unit  to  BCU)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aco"/>
              </a:rPr>
              <a:t>GNT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 = Bus Grant.        (BCU  to  Bus Unit)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aco"/>
              </a:rPr>
              <a:t>BSY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 = Bus Busy.          (Current Master  to  BCU)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2653-24A5-48DE-BA8F-05EAFD28D47E}" type="slidenum">
              <a:t>39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Interrup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Grande"/>
              </a:rPr>
              <a:t>Mechanism by which other modules (e.g. I/O) may interrupt normal sequence of processing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Grande"/>
              </a:rPr>
              <a:t>Program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Grande"/>
              </a:rPr>
              <a:t>e.g. overflow, division by zero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Grande"/>
              </a:rPr>
              <a:t>Timer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Grande"/>
              </a:rPr>
              <a:t>Generated by internal processor timer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Grande"/>
              </a:rPr>
              <a:t>Used in pre-emptive multi-tasking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Grande"/>
              </a:rPr>
              <a:t>I/O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Grande"/>
              </a:rPr>
              <a:t>from I/O controller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Grande"/>
              </a:rPr>
              <a:t>Hardware failure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Grande"/>
              </a:rPr>
              <a:t>e.g. memory parity error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EAB-DC3A-41E4-A958-C4F36F0790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Centralized Arbitr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ingle hardware device controlling bus acces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Bus Controll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rbit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May be part of CPU or separat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Only appropriate in constrained system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i.e.  2 ATA devices or 16 SCSI devic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6F5D-9E60-4FB9-95FC-5D49C72F5AB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Distributed Arbitr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Grande"/>
              </a:rPr>
              <a:t>Each module may claim the bus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Grande"/>
              </a:rPr>
              <a:t>Assert a # of wired-or signals on the bus in cycle N to determine device granted access in cycle N+1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Grande"/>
              </a:rPr>
              <a:t>Control logic on all modules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Grande"/>
              </a:rPr>
              <a:t>Costly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Grande"/>
              </a:rPr>
              <a:t>Difficult to manage – low priority device can be starved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Grande"/>
              </a:rPr>
              <a:t>Typical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Grande"/>
              </a:rPr>
              <a:t>Point-to-point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Grande"/>
              </a:rPr>
              <a:t>Managed with a multi-bus hierarchy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Grande"/>
              </a:rPr>
              <a:t>When necessary # of masters is constrained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BA7E-2E17-48C7-93EA-71E0663B6A1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General Arbitration Sequenc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Bus Unit asserts </a:t>
            </a:r>
            <a:r>
              <a:rPr b="0" lang="en-US" sz="2500" spc="-1" strike="noStrike">
                <a:solidFill>
                  <a:srgbClr val="000000"/>
                </a:solidFill>
                <a:latin typeface="Monaco"/>
              </a:rPr>
              <a:t>REQ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 (asks for ownership)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When </a:t>
            </a:r>
            <a:r>
              <a:rPr b="0" lang="en-US" sz="2500" spc="-1" strike="noStrike">
                <a:solidFill>
                  <a:srgbClr val="000000"/>
                </a:solidFill>
                <a:latin typeface="Monaco"/>
              </a:rPr>
              <a:t>BSY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 is clear,  the BCU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Decides which unit shall receive mastership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Issues </a:t>
            </a:r>
            <a:r>
              <a:rPr b="0" lang="en-US" sz="2200" spc="-1" strike="noStrike">
                <a:solidFill>
                  <a:srgbClr val="000000"/>
                </a:solidFill>
                <a:latin typeface="Monaco"/>
              </a:rPr>
              <a:t>GNT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 to only the one chosen Bus Unit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ndependent Request Method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Poll Counter Method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Daisy Chain method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When Chosen Unit receives </a:t>
            </a:r>
            <a:r>
              <a:rPr b="0" lang="en-US" sz="2500" spc="-1" strike="noStrike">
                <a:solidFill>
                  <a:srgbClr val="000000"/>
                </a:solidFill>
                <a:latin typeface="Monaco"/>
              </a:rPr>
              <a:t>GNT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, it 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asserts </a:t>
            </a:r>
            <a:r>
              <a:rPr b="0" lang="en-US" sz="2200" spc="-1" strike="noStrike">
                <a:solidFill>
                  <a:srgbClr val="000000"/>
                </a:solidFill>
                <a:latin typeface="Monaco"/>
              </a:rPr>
              <a:t>BSY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 (announcing its ownership)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Acts as bus master for one or more transfer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When finished, Unit clears </a:t>
            </a:r>
            <a:r>
              <a:rPr b="0" lang="en-US" sz="2500" spc="-1" strike="noStrike">
                <a:solidFill>
                  <a:srgbClr val="000000"/>
                </a:solidFill>
                <a:latin typeface="Monaco"/>
              </a:rPr>
              <a:t>BSY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, (relinquishing bus)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38AF-916C-46DD-BF8B-777BFB770CC6}" type="slidenum">
              <a:t>42</a:t>
            </a:fld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ndependent Request Arbitration 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ave N possible masters (bus units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Use N independent REQ and GNT lin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One per bus uni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ingle Shared BSY lin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"Wired-OR"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if  ANY unit asserts 1 then BSY = 1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93720" y="4213080"/>
            <a:ext cx="5956560" cy="21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9F02-E06F-4EF8-930D-A2FF0F1506B6}" type="slidenum">
              <a:t>43</a:t>
            </a:fld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ndependent Request Properti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mmediate Response from BCU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iorities Completely Arbitrary and Programmabl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Very Simple Bus Unit Contro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nly 3 pins / bus un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(N) pins on BCU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(N) bus lines for REQ and G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ounds N to small numb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CC7F-1283-4675-91B8-9AD809977CFC}" type="slidenum">
              <a:t>44</a:t>
            </a:fld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oll Counter Arbitr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 fontScale="90000"/>
          </a:bodyPr>
          <a:p>
            <a:pPr marL="340200" indent="-34020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Replace   N  </a:t>
            </a:r>
            <a:r>
              <a:rPr b="0" lang="en-US" sz="2200" spc="-1" strike="noStrike">
                <a:solidFill>
                  <a:srgbClr val="000000"/>
                </a:solidFill>
                <a:latin typeface="Monaco"/>
              </a:rPr>
              <a:t>REQ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 lines with one shared REQ line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0200" indent="-34020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Replace   N  </a:t>
            </a:r>
            <a:r>
              <a:rPr b="0" lang="en-US" sz="2200" spc="-1" strike="noStrike">
                <a:solidFill>
                  <a:srgbClr val="000000"/>
                </a:solidFill>
                <a:latin typeface="Monaco"/>
              </a:rPr>
              <a:t>GNT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 lines with "Poll Counter" line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25760" indent="-282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oll Counter in BCU outputs uni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Grande"/>
              </a:rPr>
              <a:t>addresses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 (1..N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5760" indent="-282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Unit takes bus when it sees own address on poll lin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5760" indent="-2826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BCU cycles through addresses until it receives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BS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211400" y="3816360"/>
            <a:ext cx="6721200" cy="258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2FEC-22BA-4AE6-A997-0E1710182003}" type="slidenum">
              <a:t>45</a:t>
            </a:fld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umber of Poll Lin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5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Problem: 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5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Prevent Units from seeing transients as valid addres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5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Solutions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5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ynchronous Bu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-214560">
              <a:lnSpc>
                <a:spcPct val="95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need a "null" addres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-214560">
              <a:lnSpc>
                <a:spcPct val="95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use bus clock to separate changing counter and sensing poll lines  (e.g. opposite edges)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-214560">
              <a:lnSpc>
                <a:spcPct val="95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otal                   lines for poll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5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Asynchronous Bu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-214560">
              <a:lnSpc>
                <a:spcPct val="95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Need a one-bit "count valid" sig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-214560">
              <a:lnSpc>
                <a:spcPct val="95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an get away without null addres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-214560">
              <a:lnSpc>
                <a:spcPct val="95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otal                    lines for polling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279520" y="4425840"/>
                <a:ext cx="124776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289240" y="5999040"/>
                <a:ext cx="12492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4210-86C1-4F34-A8D8-D4B701E4D386}" type="slidenum">
              <a:t>46</a:t>
            </a:fld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oll Counter Properti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marL="339840" indent="-339840">
              <a:lnSpc>
                <a:spcPct val="85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Advantages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82600">
              <a:lnSpc>
                <a:spcPct val="85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llegro B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(log N) pins on BCU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82600">
              <a:lnSpc>
                <a:spcPct val="85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(log N) bus lines -- Not bad, even for large 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82600">
              <a:lnSpc>
                <a:spcPct val="95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an be fair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128600" indent="-225360">
              <a:lnSpc>
                <a:spcPct val="95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Don't reset counter after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SY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is cleared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128600" indent="-225360">
              <a:lnSpc>
                <a:spcPct val="95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Avoids starvation of higher numbered unit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82600">
              <a:lnSpc>
                <a:spcPct val="85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Variable priorities -- can alter counter sequ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39840" indent="-339840">
              <a:lnSpc>
                <a:spcPct val="85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Disadvantages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82600">
              <a:lnSpc>
                <a:spcPct val="85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N bounded by number of poll lin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82600">
              <a:lnSpc>
                <a:spcPct val="85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Handwriting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(log N) pins / bus uni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33320" indent="-282600">
              <a:lnSpc>
                <a:spcPct val="105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delay while cycling through address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(bus propagation delay)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311B-20BE-4114-84FB-32A247968779}" type="slidenum">
              <a:t>47</a:t>
            </a:fld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aisy Chain Arbitr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1792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Common (shared) REQ and BSY lines (1 each)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ingle GNT line exits BCU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assed from unit-to-unit  (= Daisy Chain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ach Unit has GNT-IN  and  GNT-OUT pin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803240" y="3848040"/>
            <a:ext cx="5535720" cy="25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2AB-1C88-44A9-869C-02288E52503F}" type="slidenum">
              <a:t>48</a:t>
            </a:fld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aisy Chain Arbitr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BCU Grant Issuance Protocol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F  (REQ = T)   AND  (BSY = F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THEN assert G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Bus Unit Grant Passing Protocol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F (This Unit has NO outstanding reques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THEN   GNT-OUT := GNT-IN  (pass GNT to next uni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ELSE    GNT-OUT := False     (deny GNT to next uni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Thus, if there are multiple outstanding requests,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the unit wired closest to the BCU will get GNT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306E-E96E-47C3-8537-711F38F300C8}" type="slidenum">
              <a:t>49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nterrupt Cyc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dded to instruction cycl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cessor checks for interrup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ndicated by an interrupt signa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f no interrupt, fetch next instruc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f interrupt pending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uspend execution of current program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ave contex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t PC to start address of interrupt handler routin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ocess interrup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Restore context and continue interrupted program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2A9C-AADA-4C18-8342-319DED01FC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aisy Chain Properti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Advantages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Only 3 control lines (independent of N)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Only 3 pins / BCU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Only 4 pins / bus uni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rivially simple BC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Disadvantages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1 faulty unit can disable all "downstream" unit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Delay while GNT ripples down the line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Unit Priorities hardwire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possible starvation of lower priority unit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ABE-F32A-4524-98EF-74F2ED4326EE}" type="slidenum">
              <a:t>50</a:t>
            </a:fld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hapter 3 Summa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Interrupts: Changing the flow of the program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How do we deal with multiple interrupts?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Either we don’t, or we impose a priority scheme.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Hardware Elements need to talk to each other.  Each element has its own interface.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Buses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onnect Hardware Elements together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an be asynchronous, synchronous or isochronou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omebody needs to assert ownership of the bus.  How does that happen?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Daisy Chain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Poll Counter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Independent Request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ll of these have pros and con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4757-E100-4A0C-9DF6-0BB69C0BBC7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Lucida Grande"/>
              </a:rPr>
              <a:t>Transfer of Control via Interrupts</a:t>
            </a:r>
            <a:endParaRPr b="1" lang="en-US" sz="40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4394" t="12748" r="28028" b="35558"/>
          <a:stretch/>
        </p:blipFill>
        <p:spPr>
          <a:xfrm>
            <a:off x="1633680" y="1874880"/>
            <a:ext cx="58752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00CD-8A43-4F66-AEAA-77953ECADA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Instruction Cycle with Interrup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8333" t="24510" r="8333" b="30393"/>
          <a:stretch/>
        </p:blipFill>
        <p:spPr>
          <a:xfrm>
            <a:off x="380880" y="1905120"/>
            <a:ext cx="8382240" cy="35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6065-5A82-48D5-9515-3AA2B79582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ultiple Interrup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isable interrup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ocessor will ignore further interrupts whilst processing one interrup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nterrupts remain pending and are checked after first interrupt has been processed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nterrupts handled in sequence as they occur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efine prioriti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ow priority interrupts can be interrupted by higher priority interrupt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en higher priority interrupt has been processed, processor returns to previous interrup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767-2677-4B41-8957-3D70E70513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ultiple Interrupts - Sequential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57566"/>
          <a:stretch/>
        </p:blipFill>
        <p:spPr>
          <a:xfrm>
            <a:off x="1436760" y="1874880"/>
            <a:ext cx="62690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3EA3-4C33-4D78-AF7B-CF0DD7EDA9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7T17:07:47Z</dcterms:created>
  <dc:creator>Brian T Davis</dc:creator>
  <dc:description/>
  <dc:language>en-US</dc:language>
  <cp:lastModifiedBy>Christopher Cischke</cp:lastModifiedBy>
  <cp:lastPrinted>2000-01-13T21:33:12Z</cp:lastPrinted>
  <dcterms:modified xsi:type="dcterms:W3CDTF">2008-02-04T16:54:53Z</dcterms:modified>
  <cp:revision>113</cp:revision>
  <dc:subject>EE3173</dc:subject>
  <dc:title>No Slide Title</dc:title>
</cp:coreProperties>
</file>