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6C9-2C3E-4761-9B62-11EA99D9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BB9-D681-4005-BEC6-20FF4FFE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715-0EA2-4729-9BB1-29FE550C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8EE-09D2-4E7F-9C18-689246DF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CC9D-33C1-4A88-BF58-60F6E273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D703-D00C-4CBD-A480-BF04416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D4EB-3E8A-4AFF-A68E-533EE7D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0B1A-B42D-46E5-9B64-A68ACBCA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C0C3-90BD-4713-AE02-940206A0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F9DA-0C3C-484B-B55B-AE5A73AE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520C-20EC-4815-AE15-3E676133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9D4-CC7C-436F-A239-3E776A3B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75EE-7834-4BC7-ABD6-1915993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62B1-3FD3-4F78-BAE6-A5134A4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E2A-A38A-4322-988E-F2F7CA01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5717-B326-4807-98AA-B46C70DA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D147-5FED-44BD-B8D6-E6340DE6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D17-A97A-420F-A671-025F9C24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933-649D-478D-9698-7D9E18D5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224-90A5-4FB2-B788-4096BB3F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B85-94F4-48AA-8752-319D3A3B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404-F836-4064-9C15-FC1E971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5B2-3F56-4361-9549-96A906D2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0DF-A4E2-4B85-91DF-3B4636A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A643-C1B2-42A3-95AF-E19292F21EC2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E1EC-7674-4928-9141-AB77BE7C5A72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6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ransmission Error Prevention, Detection and Correc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reating a Hamming Co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Lay out the bits in a line and number them from 2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- 1 down to 1.  If the bit is a power of 2 (1, 2, 4, etc.) it is a check bit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For all of the other bits, if the binary representation of that bit’s number has a 1 that corresponds to a check bit, that data bit factors into the parity calculation for a given check bit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Example: Let </a:t>
            </a:r>
            <a:r>
              <a:rPr b="0" i="1" lang="en-US" sz="2500" spc="-1" strike="noStrike">
                <a:solidFill>
                  <a:srgbClr val="000000"/>
                </a:solidFill>
                <a:latin typeface="Lucida Grande"/>
              </a:rPr>
              <a:t>n 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= 3.  Bit 1 is a check bit, and covers bits 1, 3, 5 and 7 (00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, 01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, 10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, 11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).  Bit 2 is a check bit and covers 2, 3, 6 and 7 (0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0, 0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1, 1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0, 1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1).   Bit 4 is a check bit and covers bits 5, 6, and 7 (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01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10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11)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n Alternate Way of Think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sition 1: check 1 bit, skip 1 bit, check 1 bit, skip 1 bit, etc. (1, 3, 5, 7, 9, 11, 13, 15, ...) 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sition 2: check 2 bits, skip 2 bits, check 2 bits, skip 2 bits, etc. (2, 3, 6, 7, 10, 11, 14, 15,...) 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sition 4: check 4 bits, skip 4 bits, check 4 bits, skip 4 bits, etc. (4, 5, 6, 7, 12, 13, 14, 15, 20, 21, 22, 23,...) 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sition 8: check 8 bits, skip 8 bits, check 8 bits, skip 8 bits, etc. (8-15, 24-31, 40-47, ...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member to start with the check bit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n Examp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 Data Word: b1001101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sert spots for check bi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 0  0  1 _ 1 0 1 _ 0 _ 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lculate Appropriate Parity bi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rst bits covered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0 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_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_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_ 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o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0 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_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0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_ </a:t>
            </a:r>
            <a:r>
              <a:rPr b="0" lang="en-US" sz="20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_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Hamming Example Continued…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Next Check bit: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1 _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_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_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0 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1 _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1 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_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Bit 4: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0  0  1 _ </a:t>
            </a: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1 0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0 1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Bit 8: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Courier New"/>
              </a:rPr>
              <a:t>1  0  0 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0 1 1 0 1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Hamming Conclude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nal Data To Send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000"/>
                </a:solidFill>
                <a:latin typeface="Courier New"/>
              </a:rPr>
              <a:t>1  0  0  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ff8000"/>
                </a:solidFill>
                <a:latin typeface="Courier New"/>
              </a:rPr>
              <a:t>1 0 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ff8000"/>
                </a:solidFill>
                <a:latin typeface="Courier New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urier New"/>
              </a:rPr>
              <a:t>1 1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It is often more convenient to separate the check and data bits: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2 11 10 9 8 7 6 5 4 3 2 1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8000"/>
                </a:solidFill>
                <a:latin typeface="Courier New"/>
              </a:rPr>
              <a:t>1  0  0  1 1 0 1 0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urier New"/>
              </a:rPr>
              <a:t>0 1 1 1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tecting Errors with Hamm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o our “mixed” data word is b100101011011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at if we got b101101011011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Grande"/>
              </a:rPr>
              <a:t>We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can easily tell that bit 10 is flipped because we can see both ends of the communication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How does the average receiver detect errors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Recalculate parity on each of the check bits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arity errors at bit 8 and bit 2 (check bits = b1010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8 + 2 = 10 (and b1010 = 10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rrection applied by just flipping that bit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If two bits are flipped, the parity will be screwed up, but we won’t be pointed to a specific bit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 What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amming is the most traditional way of applying ECC to things like RAM and other data transfer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t least the ones that don’t use CRC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RC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Cyclic Redundancy Check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A hash function creates a checksum that is transmitted along with the data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re are lots of “approved” hash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Checksum is generated by the transmitter and receiver, based on the data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ostly an XOR operation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f the checksum doesn’t match, there was a problem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CRC-32 is the polynomial hash function for PNG, Ethernet and ZIP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e error detection and correction distance is highly tied to the polynomial itself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Parity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amming distance of 2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ven or odd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Bit Stuffing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ttempts to prevent “stuck-at” errors and the reception of special bit sequenc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ticks a 0 in after 5 1’s in a row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Hamming Code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ultiple even parity bits allow us to pinpoint the bit that flipped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amming distance of 3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CRC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ash function that generates a checksum, verified by the receiver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cepts for Lecture 6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rror Preven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it Stuff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rror Detec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rror Correc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amming Cod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it Stuff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basic concept here is to limit the number of sequential 1’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tecting against a “stuck-at” faul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nerally forbid more than 5 sequential 1’s in a row, at which point a 0 is forcefully inserted by the transmitte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receiver must undo this stuffing in order to receive correct data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pplication: CA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it Stuffing Examp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sider the data packet 0111 1111 000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e have 7 ones in a row, which, if sent, would violate our rul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 we sen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0111 1101 1000 0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overhead isn’t too ba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ror Detection: Parit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-bit error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de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 agreement between the transmitter and receiver as to how many 1’s will be transmitted in a data packe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hoices are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even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od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wo problems with parity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1. Which bit had the error?  We don’t know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. What happens when two bits flip?  3?  4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ample: Calculating Parit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ven parity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ta packet = b10110110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arity Bit = b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tal of 6 1’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dd parity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ta packet = b10110110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arity Bit = b0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tal of 5 1’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ample: Parity Erro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ta packet = b1010101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ven parity bit: b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tal of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1’s. 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ere’s the error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ta packet = b10101010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dd parity bit: b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tal of 6 1’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arity’s Limi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riginal data packet: b1010000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ven parity sent as b1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ceiver gets data packet: b1010101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ven parity received as b1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o parity error!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ut the data is incorrect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s limitation is usually called the “Hamming Distance”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Hamming Cod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amed for R.W. Hamm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sically just redundant par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oks complicated, but really isn’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r any value of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n,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 generate a value that i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1 bits.  Of these bits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are check bit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- 1 -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are data bi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ample: Let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= 3.  Then we create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Grande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- 1 = 7 bit data packet.  3 bits are check bits.  4 bits are data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ample: We want check bits for 32-bits of data. 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= 5 only covers 26 data bits, so we need 6 check bit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9:43:15Z</dcterms:created>
  <dc:creator>Kit Cischke</dc:creator>
  <dc:description/>
  <dc:language>en-US</dc:language>
  <cp:lastModifiedBy>Christopher Cischke</cp:lastModifiedBy>
  <dcterms:modified xsi:type="dcterms:W3CDTF">2008-02-06T17:20:40Z</dcterms:modified>
  <cp:revision>9</cp:revision>
  <dc:subject/>
  <dc:title>EE 3173 Lecture Y</dc:title>
</cp:coreProperties>
</file>