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1C7-0A2B-4588-AD34-A42F225F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01C-F3C4-4F86-8604-2C9993B0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17C-9684-4BE5-A30C-1D8391B5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DF7-5BB6-49FF-A209-0C8CB066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D30-590A-45E6-85D9-981B1DF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71F5-9FCF-4C7E-B9BE-6D228A8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5C8A-5CA0-41B4-A694-9ACA2CE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81F8-2DFD-47B5-8177-3E36565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4836-90DC-4DBA-8477-630F7C69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5C4-CA6F-4D96-9F68-407EE95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E410-5827-46A1-90E9-E106999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898-B85C-4F54-927F-354E539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F38-496B-4982-A2ED-71A8C55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C4D-2B9C-4843-8F62-E8C1139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C6D1-FE50-4461-B71E-3A185315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981-BB9B-4400-9B8D-10E5CDE6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323-B211-4BD2-818B-D3F88E5D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2AF-6DAB-426B-BEC0-065C87D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222-B0CF-4F9D-8EC3-5308CD05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406-9D46-49F3-AE21-99AC3AAA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3DE-54A5-4112-8439-32ACBB1E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CF8-ACA5-497F-A460-D2733B8B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821-D5A9-426A-A122-98D9232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63C-0C70-4FDB-A5B8-72DC9A94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1FE2-7895-41C9-AC6C-01B67AD765F8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D253-18F2-45DD-8E24-10F3B2C1FD0C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16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al-Time Operating System Overvie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OS Bas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ource Deadlock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ia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virtual memor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2 main functions of VM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?  Why?  Wher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ystem Cal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me operations should not be performed by users.  Therefore, the OS provides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system call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wo major categories of system calls: Process Management and File Oper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cess Managemen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itpi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le Managemen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S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5 Different ways to code up your O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. Monolithic Kernel (aka: “The Big Mess”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. Layered syste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. Virtual Machin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 extensions of a machine, but exact replicas of bare hardwar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JVM is a little different, because the ISA doesn’t match any hardware ISA I’m aware of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4. Exokerne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main controller for all the various VM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5. Client - Serv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modular system that keeps the kernel small and passes messages to various OS process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More on Process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re created by system init, by another running process, by user reque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re terminated voluntarily (with good and bad status) and involuntarily (fatal errors, or being killed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be in one of three states: Running, Ready or Block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nly 1 process can be “Running” per CPU cor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ith the exception being symmetric multithreadin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ave a Process Control Block (PCB) that makes up an entry in the Process Tabl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rea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equently, a program has sections that are heavily logically connected to themselves and not tightly connected to other parts of the program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se can be separated into “threads of execution”, or just “threads”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so called lightweight process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ny of the same structures and controls exist for threads as for process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PC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ce conditions and other “critical sections”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cks, Alternation, Test/Set/Loc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tter Option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maphores, Mutexes, Monitors, Message Passing, Barri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hedu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umProcesses &gt;&gt; numProcess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other words, lots of processes want the resource of the processors.  How do we figure out who goes next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cheduling algorith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hedu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Knowing only what you know now, suggest some ways we could schedule our process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eneral Scheduling Categories &amp; Go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tch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imize jobs per hour, minimize turnaround time, maximize CPU utiliz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active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imize response time to user input, meet user’s expect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al Time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eting deadlines, maximizing predictabil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imize fairness, enforce scheduling policy (as advertised), maximiz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utiliz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mple Schedu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tch Algorithm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rst-come first-served (non-preemptiv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hortest Job First (non-preemptiv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hortest Remaining Time Next (preemptiv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active Algorith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ound-Rob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iority Schedul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uaranteed Scheduling (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processes are guaranteed 1/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of the CPU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ttery Schedul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6 Overvie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sic OS Concep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S Classific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the OS do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reads, processes, scheduling, OS responsibilities, IP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al Time OS Concep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cheduling for Pow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bedded File Syste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TOS Schedul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few definitions first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Deadlin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time when all computation must be finish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Initiation Tim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time when computation star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Completion Tim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time when computation en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Release Tim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 time between a deadline and the next initiation time (mayb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Term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interval between successive deadlin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Relative Deadlin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difference between release time and dead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Response Tim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interval between release and comple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Execution tim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- interval when CPU is active on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my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tas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4952880"/>
            <a:ext cx="723888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ne Last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Lucida Grand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= execution time and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= total tim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n the total execution time to complete all processes 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Utilization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of CPU i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28800" y="4038480"/>
                <a:ext cx="17524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81080" y="5562720"/>
                <a:ext cx="990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atic Real Time Schedul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of the earliest examples was introduced by Liu and Layland, calle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Rate-Monotonic Scheduling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t is a static schedule, in that process priorities are fix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s seems to still work well.  RMS was introduced in 1973, and is still us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schedule is worked out via rate-monotonic analysis, based on 6 simple rul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MA Ru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 processes run periodically on a single CPU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ext switching time is ignor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re are no data dependencies between process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execution time for a process is constant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 deadlines are at the end of their period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highest-priority processed is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selected for executio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iorities are assigned by rank order of period, with the process with the shortest period being assigned the highest priorit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resulting schedule is the optimum assignment of static priorities in that it provides the highest CPU utilization while ensuring all processes meet their deadlin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MS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1895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97280" y="35053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5334120" cy="2198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42960" y="6248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 Explain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art by finding the least-common multiple of all periods for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unrolled schedu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 three periods start at time 0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1’s data arrives first and it executes.  Done in 1 time un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2 is the next highest-priority, so it goes next.  Executes for 2 time uni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3 goes next, but gets interrupted by the higher-priority P1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3 gets one more cycle before it’s interrupted by P2 and P1 aga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nally, P3 finishes.  We even have 2 time units before the schedule repea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other Examp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y this one on for siz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793960"/>
          <a:ext cx="6858000" cy="17017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xecution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838080" y="4724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show that this is a no-win scenario without an optimal schedule that guarantees exec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Complex Schedu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re complex schedules can be derived and proved optimal by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critical-instant analysi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response tim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in RMA is the time at which the process finish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 the same as generic definition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critical instan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for a process is the instant twhen the task has its longest response titm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tuitively, this falls when any process is ready, but so is every other higher-priority process.  Response time always gets better from the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the second example, we showed that there was no optimal schedule.  Let’s formalize tha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iven two processes P1 and P2, they have peri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nd execution times T1 and T2. 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P1 is higher priority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P2 is higher priority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rmalizing the Metho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952880" y="4191120"/>
                <a:ext cx="1981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029200" y="5410080"/>
                <a:ext cx="19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Ques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an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operating system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are its roles and responsibil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d at the very heart of it all, why do we want/need an OS anyway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does it all mean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P1 is higher priority, we will execute P2 exactly once and P1 as many times as we can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times)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must be greater than or equal to that sum or else they can’t be scheduled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P2 is the higher priority, we will execute both processes once, and it needs to be shorter than the perio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Lucida Grand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Bad New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MS is optimal as a static-priority schedul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ay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t will almost never give us 100% CPU utiliza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oo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fact, the upper bound on utilization i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                 for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process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 m gets larger,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pproaches 69%.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jor bumm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ybe not so ba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14400" y="4419720"/>
                <a:ext cx="2057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 Simple RMA Implemen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Notes on Implemen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scheduler is O(n) after sorting based on priority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implementation given is for a fixed number of processes, but could be modified to accommodate dynamic process cre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quires a dynamic data structure for process records and resort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arliest-Deadline Firs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u and Layland also described a more dynamic protocol that works like a college student: Do the thing with the closest due dat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pside: Can be shown to get nearly 100% CPU utiliza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wnside: Can miss deadlin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bility to schedule given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14400" y="5334120"/>
                <a:ext cx="1905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208680" y="5486400"/>
            <a:ext cx="522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elative deadline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DF Implemen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33400" y="1874880"/>
            <a:ext cx="747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DF Variant - Least Lax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 variant of EDF is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least-laxity firs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Laxity 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slack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is the difference between the remaining computation time required to finish the computation and the time remaining until the deadlin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DF gives priority to a process with a looming deadline, regardless of computational need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LF gives priority to a process that’s going to struggle to meet a deadline (potentially)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MS vs. EDF -- FIGH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 which one do you pick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hoose RMS if you need hard deadlines and don’t care about CPU utilizatio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hoose EDF if you need high utilization and can stand some missed deadlin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f neither holds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et faster hardwar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rite faster cod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write the rules (I.e., change the deadlines)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ining Our Assump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es can be interrupt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ertainly not true.  We can end up with a low-priority task in a critical section that cannot be interrupted by a higher-priority task.  It’s called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priority inversio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text switching time is zero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e know from interrupt handling we have stuff to do. 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at doesn’t stop us from running with that assumption, even in recent research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 execution time is consta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 always the case -- especially if the process is data-dependent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VS Schedu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ny embedded processors provid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dynamic voltage scaling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ower the clock speed, the less voltage required and therefore less power consum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finitions to get us through thi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with arrival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, dead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nd CPU require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n interval is between two ti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- a lower bound on the average processing speed to create a feasible schedule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Critical Interval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- an interval that maximizes the intensit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*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Critical Group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- processes that run during the critical interva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 Brief (Incomplete) Taxonom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rver OS - Solaris, Linux, Windows Server, Mac OS X Serv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ultiprocessor OS - S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t one point, this wasn’t the cas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C OS - Linux, Mac OS X, Windo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 you can see, this distinction is kind of blurr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al-Time OS - VXWorks, QN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bedded OS - Windows CE, Palm OS, whatever might be on your Cell Phon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DV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intensity is mathematically defined a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ptimal schedule can be shown to be i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).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average rate of the processor should be set to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90720" y="2895480"/>
                <a:ext cx="1295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66680" y="5791320"/>
                <a:ext cx="17528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How Good is It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use EDF to schedule processes after scaling the frequenc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be shown to be optimal within a constant factor of best possible schedul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blem: We don’t usually have infinitely scalable processors.  We have discrete options to choose from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hihara and Yasuura showed that we can slip back and forth between two voltages under a deadline for nearly optimal power usag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d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is actually sunk a faculty candidate last year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ther Power-Driven Schedul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im et al. developed an algorithm using slack times to scale processor voltag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zevedo et al. used profiling from simulations to guide the DVS schedul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ejurikar et al. use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procrastinatio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scheduling to maximize idle period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ybe this is the most like college studen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an Zhou (a faculty candidate) presented work last week on scheduling based on the number of live register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imize performance, but minimize pow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mbedded File System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le systems, on the whole, are difficul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ut were my favorite part of Operating System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bedded file systems hold even more challenges from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de siz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media (Flash memory requires special consideration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FS Consider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ices that are self-contained can organize files however they wan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ices that interface with other devices need to organize their files according to some standard (FAT, NTFS, whatever)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abil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 CD player only needs to read files.  iPods, digital cameras, etc. need to read and writ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ther Various Challen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lash-based syste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lash cannot be written word-by-word.  Rather, whole blocks (as large as 64KB) must be erased, then writte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erase/write cycle stresses the device on an electrical level that will cause the device to fail, eventually.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refore, a file system on flash devices must minimize writes for both performance and longevit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ther Various Challen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AND vs. NOR Flash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R devices are usually more like RAM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AND devices are block devices (more like disks).  NAND is also less reliable and prone to transient read error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sequently, the type of flash may effect file system implementation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ear-leveling in Flash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ecause we stress out blocks in flash, we’ll move files around to maximize life of the devic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UT… the file allocation table gets modified all the time, and usually can’t be moved.  It can become a single point-of-failure for the devic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sequently, it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extend the life of your device to do bulk erasure or formatting rather than deleting files piecemeal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ear-leveling is often implemented using virtual mapping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ther Various Challen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Virtual Mapping may be in RAM or in flash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ame problems apply as F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Mapper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anages the schedule of block erase/write opera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solidates data to free up blocks for reus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dentify bad blocks and mark them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oes the wear-leveling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ournaling file systems may be used to minimize corruptio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FFS (Journaling Flash File System) has special hooks for dealing with sudden power los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YAFFS (Yet Another Flash Filing System) is specifically for NAND memori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FFS and YAFFS are supposed to work hand-in-hand with embedded Linux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at’s Not Nearly Al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bviously all of this barely scratches the surface of RTO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you want more, EE 4732 in Fall 2008 will discuss these topics in-depth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uming we find someone to teach i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S have 2 main func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xtend machine and resource managemen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es are the fundamental unit, each process has characteristics the OS manag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es may have threads as lightweight process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e need to figure out how to schedule processes.  It works differently on the desktop and the real-time embedded system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 real-time systems, we might use RMA, EDF, LLF or DVS scheduling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le systems on embedded devices often require special considerations because they’re often flash-bas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other Taxonom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ulti-Us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ulti-Process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ulti-Thread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al-Tim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ain, this is a blurry distinc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edi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annenbaum, Andrew S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Modern Operating System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  Prentice-Hall, New Jersey. 2001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lf, Wayn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High-Performance Embedded Computing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 Morgan Kaufman, San Francisco. 2007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olf, Wayne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Computers as Component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. Morgan Kaufman, San Francisco. 2005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wo Responsbili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perating System performs two main task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nding the Machin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’ve spent 13 weeks investigating interfacing with I/O devices, and it’s hard.  The OS simplifies all tha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naging Resour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write programs as though we’re the only thing running.  The OS lets this work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on Resour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grams need resourc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OS grants/revokes those in two main ways: time and spac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Time multiplexing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gives resources to devices in some kind of rotation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verybody gets a tur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pplicable resources: Disks, network interfaces, CPU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Space multiplexing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divides available resources up to competing program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verybody gets a slice of the pi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pplicable resources: Main memory, hard driv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S Bas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-- Usually a program in execu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cess Characteristics: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 ID (PID) - a unique identifi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ddress space - a list of addresses the process is allowed to acces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gisters - PC, Stack pointer, general purpose registers.  Which are used, and what are the values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ually contained in a protected data structure in the O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process tab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eation and termination of processes is a key activity for the O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aling with Process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ocesses can spawn new processes.  The new process is a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chil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a process has no parent, it’s an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orphan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e normally visualize processes as a tre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ce we have multiple processes, we need to start thinking about how to communicate between them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81480" y="4724280"/>
            <a:ext cx="320040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37:15Z</dcterms:created>
  <dc:creator>Christopher Cischke</dc:creator>
  <dc:description/>
  <dc:language>en-US</dc:language>
  <cp:lastModifiedBy>Christopher Cischke</cp:lastModifiedBy>
  <dcterms:modified xsi:type="dcterms:W3CDTF">2008-04-18T17:50:20Z</dcterms:modified>
  <cp:revision>14</cp:revision>
  <dc:subject/>
  <dc:title>EE 3173 Lecture 16</dc:title>
</cp:coreProperties>
</file>