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3B1-28F7-4E76-AD84-3DB99991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6CF-4186-4827-BA7B-3255A808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E9F-045A-4309-A4A9-0666D03E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F4C-2D97-4199-9553-503A1108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B149-8753-4FF3-BB96-227A4270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4B99-681B-43B6-BF8D-408D8340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3109-0C3B-4646-A11F-EB494D5A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D0E7-BADD-4885-A2C4-FC449F03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E6A5-04DA-4D13-AC80-1D29D3C2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A163-288C-4C5D-B668-A489BF32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64C5-A415-410F-9727-8ED207F8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BD8-D5E1-4713-8B35-2F1E6F0A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3906-DBFC-48EF-8479-A778ED67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50E4-CED6-45E4-BB26-E124A515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A50C-1D0A-40F8-A95E-980EACCD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6B59-FE33-4036-B500-1D9271A2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1C4D-7764-4550-B7E9-9502D1CF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D13-3F6C-43AB-80FB-83BF1176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DCC-6045-4867-8AC3-AEFFFF29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C052-D5A9-40DC-A61D-32C44828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5C9-650B-4E6E-8B10-8DA061BF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4D0-4C22-4BDC-BFD9-1C70FDAC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967-B443-4F45-8E04-8EECED01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0CD-0CE3-487F-9EE1-95915189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C2EC-CABC-4BB8-8DC1-AA78E4B7712F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CF2F-1961-4134-86E5-3CF037D26972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E 3173 Lecture 15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ime-Triggered Buses with TTCA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urrent Time-Triggered Network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TP -- Time Triggered Protoco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Developed by TTTech.  Very heavy-duty protocol. 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Generally eschewed by automotive suppliers because it’s </a:t>
            </a:r>
            <a:r>
              <a:rPr b="0" i="1" lang="en-US" sz="1800" spc="-1" strike="noStrike">
                <a:solidFill>
                  <a:srgbClr val="000000"/>
                </a:solidFill>
                <a:latin typeface="Lucida Grande"/>
              </a:rPr>
              <a:t>too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robus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TCAN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 time-triggered software layer on top of plain-vanilla CAN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FlexRay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urrently the </a:t>
            </a:r>
            <a:r>
              <a:rPr b="0" i="1" lang="en-US" sz="1800" spc="-1" strike="noStrike">
                <a:solidFill>
                  <a:srgbClr val="000000"/>
                </a:solidFill>
                <a:latin typeface="Lucida Grande"/>
              </a:rPr>
              <a:t>de facto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T protocol for automotive applications (or should be soon)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re members of the FlexRay Consortium: BMW, DaimlerChrysler, Bosch, Freescale, General Motors, Philips, Volkswage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TCA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goal of time triggered operation on CAN is to avoid latency jitters and to guarantee a deterministic communication pattern on the bus. 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over, this allows use of the physical bandwidth of a CAN network much more efficiently (under the constraint of determinism)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291600" indent="-29160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wo levels: 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31440" indent="-2426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on level 1 guarantees the time triggered operation of CAN based on the reference message of a time master.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31440" indent="-2426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n extension level 2, a globally synchronized time base is established and a continuous drift correction among the CAN controllers is implemented.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Jitt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ere we’re simply referring to a delay in when a message would </a:t>
            </a:r>
            <a:r>
              <a:rPr b="0" i="1" lang="en-US" sz="3200" spc="-1" strike="noStrike">
                <a:solidFill>
                  <a:srgbClr val="000000"/>
                </a:solidFill>
                <a:latin typeface="Lucida Grande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to be sent and when it can actually be sent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at is, when no other devices want the bus for a higher-priority messag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Jitter in real-time systems is a problem, especially in x-by-wire system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leshing Out the Schedu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Reference Messag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omebody has to take the role of </a:t>
            </a: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time master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and send out a Reference Message that begins a </a:t>
            </a: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basic cycl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basic cycle is one of potentially many different schedules that play out between Reference Messag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 essence, the RM acts like an SOF in USB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evel 1 RMs are just empty data fram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evel 2 RMs potentially contain more control information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33720" y="5029200"/>
            <a:ext cx="50292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ore Schedu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863600"/>
            <a:ext cx="822960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Between RMs are various chunks of time: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Exclusive Windows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Arbitrating Windows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Free Windows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There can be any multiple of these, including multiple exclusive windows for any given device.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7760" y="1874880"/>
            <a:ext cx="71866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xclusive Window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or periodic messag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ill be as long as needed to send the specific messag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ich means the system designer needs to know ahead of time how large each message will b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uld, theoretically, get stomped on by normal arbitrated CAN traffic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t is, after all, still a CAN b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utomatic retransmission is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allow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rbitration Window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f some error condition arises that simply can’t wait, we can revert back to normal CAN bus traffic and transmit our messag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timeframe for this is still limited, so it probably needs to be short and swee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system designer still has ultimate freedom here, so there can be room for multiple nodes to transmit spontaneous message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utomatic retransmissions are not allowed in arbitration windows either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ree Window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ed for future system expansion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be changed to arbitrating or exclusive time windows if new nodes need further space for communication or the bandwidth has to be extended for existing nodes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etwork Ignoranc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ot quite as strong as regular CAN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 TTCAN node knows when it’s allowed to transmit and when the nodes it’s interested in will be transmitting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wever, it is blissfully ignorant of everybody els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48320" y="2763720"/>
            <a:ext cx="403848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System Matrix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ometimes a single basic cycle isn’t flexible enough for our system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ctually, this is usually the case!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o we can have an arbitrary number of sequential basic cycl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bviously, programming the nodes becomes less trivial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8320" y="2405160"/>
            <a:ext cx="40384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13 Concep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ime-Triggered vs. Event-Trigger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traffic on a TT bus looks lik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TTCAN is mapped onto CA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ther TT protocol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ultiple Arbitrating Window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ultiple sequential arbitration windows can be treated as one long window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 upshot is that, for a change, retransmissions are allowed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provided they will fit in the window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2703600"/>
            <a:ext cx="40384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Time Mast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17880" y="1600200"/>
            <a:ext cx="3560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Time Mast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Level 1 Time Master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ot very comprehensive.  The standard CAN bit clock is used, and time is all relative to that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Everybody synchronizes to the SOF bit of the reference message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Level 2 Time Master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ime is based on a “real” second.  Each node synchronizes to the SOF bit, but also verifies their clock is the same as the Global Time sent in the RM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ell, not </a:t>
            </a:r>
            <a:r>
              <a:rPr b="0" i="1" lang="en-US" sz="1800" spc="-1" strike="noStrike">
                <a:solidFill>
                  <a:srgbClr val="000000"/>
                </a:solidFill>
                <a:latin typeface="Lucida Grande"/>
              </a:rPr>
              <a:t>exactly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the same.  Each node is aware of the delay time between transmission and reception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dditionally, nodes attempt to compensate for different rates of clock drift between the local time and the global time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ault Tolerance in the Time Mast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-module Redundanc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ultiple nodes are ready and willing to be time master, and will automatically step up if some unusual latency is detected on the reception of the RM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f a higher-priority Time Master starts transmitting, the lower-priority TM notices and backs off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 Flexible Protoco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f supported by all nodes, the Time Master can declare that we’re (temporarily) done with this whole “time-triggered” stuff and go asynchronous for a time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s is generally not the case for other TT protocol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is largely the result of mapping a software TT protocol onto vanilla CAN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Future of All Thi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N, in cars at least, is dead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TCAN was only an interim solution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main options at this point are TTP and FlexRay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et’s look at a comparison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y impression is that FlexRay is winning this battle in the automotive space, with suppliers simply feeling that TTP is overkill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first FlexRay vehicle was a BMW 5-series, so FlexRay is out there.  Not in Houghton, obviously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 Brief Survey of Access Mode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SMA -- Carrier Sense Multiple Acce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verybody checks.  If nobody else is sending, feel free to transmi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N, IEEE 802.1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DMA -- Code Division Multiple Acce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ultiplexes signals with a crazy sche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raditional cell phon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DMA -- Time Division Multiple Acce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verybody has a time slot, and we all take turns.  Aren’t we nice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SM cell phones, TTCAN, other TT protocol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aybe This Helps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trivial comparison imagine a UN party where couples from different countries are invited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MA:  Each couple takes turns talking. They talk for a short time and then stop to let another couple talk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: Each couple talks at the same time; however they all use different language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DMA, nobody talks over anybody els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DMA, nobody understands anybody else, and ignores the “noise”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AN is Event-Triggere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en something occurs at a given node, it causes that node to want to transmit a message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at was the timeframe of the last sent message?  Who cares?  I have something to send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now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arge periods of time </a:t>
            </a:r>
            <a:r>
              <a:rPr b="0" i="1" lang="en-US" sz="3200" spc="-1" strike="noStrike">
                <a:solidFill>
                  <a:srgbClr val="000000"/>
                </a:solidFill>
                <a:latin typeface="Lucida Grande"/>
              </a:rPr>
              <a:t>could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pass with an idle bu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TCAN is Time-Triggere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ings occur on a schedul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t’s been precisely 33 µs since my last transmission, so it’s time to send something out again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othing changed?  Oh well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Schedu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l time-triggered events occur on a rigid, predetermined schedul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at means the network topology must be known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, and cannot change without creating a new schedul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3075120"/>
            <a:ext cx="40384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ut, but why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hat is the point of time-triggered communications?  It seems like there’s a lot of wasted bandwidth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For real-time systems, the key is being able to guarantee a worst-case latency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.e., A node </a:t>
            </a:r>
            <a:r>
              <a:rPr b="0" i="1" lang="en-US" sz="2200" spc="-1" strike="noStrike">
                <a:solidFill>
                  <a:srgbClr val="000000"/>
                </a:solidFill>
                <a:latin typeface="Lucida Grande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respond to an input within 150 ms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Time-triggered protocols guarantee access to the bus with a bounded latency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Very important for x-by-wire systems in vehicles.  Imagine a steer-by-wire system where the steering wheel sensor couldn’t get on the bus to transmit its message to the wheel actuators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ample Automotive Network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11280" y="1874880"/>
            <a:ext cx="612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8:55:37Z</dcterms:created>
  <dc:creator>Christopher Cischke</dc:creator>
  <dc:description/>
  <dc:language>en-US</dc:language>
  <cp:lastModifiedBy>Christopher Cischke</cp:lastModifiedBy>
  <dcterms:modified xsi:type="dcterms:W3CDTF">2008-04-14T13:54:20Z</dcterms:modified>
  <cp:revision>7</cp:revision>
  <dc:subject/>
  <dc:title>EE 3173 Lecture 13</dc:title>
</cp:coreProperties>
</file>