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C87-7C0E-44FB-A8F4-FAB08359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762-CF21-4F00-8F45-CAB7C5AB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E30-CE8D-499C-B1D1-939A08A6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44A-561B-46F7-8BDC-12BEFF1B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997E-1D29-4810-A304-BE27FD1D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241F-151B-4C00-B8A3-D92915EB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562E-AD3A-4C9E-AAE7-E4BFEBA5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5ED3-9AD4-478A-9D77-95526B9B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987B-6126-4EF9-B640-3EE6C61D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E845-BDA0-40E8-9F9B-52D77FB2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2CDF-04F0-4C25-A470-DD14DA03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F1A-C870-4844-8C84-CC7097E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8891-F5DC-4AC2-8C84-8D8552B0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659C-37FB-460E-A852-C4AAF4D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1DFD-7B2C-47AC-8317-13CDF01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CBEC-75DD-478F-896B-86D71030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D71-247D-402B-912D-99FF71D7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4AA-3D2F-447F-9F70-2366FA3A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3EF-0674-48F5-A8CC-5F0FFFE6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E45-6AB3-416F-892F-6F59A8B3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E5E-28F1-41A7-BF89-290E5A64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1A1-FB2C-45E6-A402-5F01114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3AC-2D86-4A6D-99B1-FB04EE8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97F-9649-4A62-B95E-D9D9326D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3CFC-85C2-4D97-94FF-B02D4C7D36A0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ABB8-8E80-4FB5-B696-6BE7D0458764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4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ios II Assembly Language Overvie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ath Instru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, add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v, div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ul, muli, mulxss, mulxsu, mulxu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, sub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gging Into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74880"/>
            <a:ext cx="8229600" cy="178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6629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gging Into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add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3235320"/>
            <a:ext cx="8229600" cy="1805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40240" y="519444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 with overflow detection the same way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 What’s the Differenc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ne takes the value of two registers, adds them, and sticks the result in a third register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ther takes a 16-bit immediate and does the sam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f you need 17+ bits for your constan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hi rB, %hi(valu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 rB, rB, %lo(value)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oolean Logic Fun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d, andhi, and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, orhi, or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, xorhi, xor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of these pretty much work the same way as the arithmetic functions and do what you would expec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NAND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m to b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MIA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Getting Data In and Out of Register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db/ldbio, ldbu/ldbuio, ldh/ldhio, ldhu/ldhuio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dw/ldwio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ov, movhi, movi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ovia, movui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tb/stbio, sth/sthio, stw/stwio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Each of the “b” instructions loads/stores a single sign-extended byte of data.  The “w” instructions grab a full 32 bits using a funny sum to calculate the final address to access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The “h” instructions get at  high-order bytes (sometimes)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Low order bytes are set to 0 if loading high-order byte!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h” instructions might also get a 16-bit sign-extended value.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The “io” instruction bypass the data cache, if present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The “u” instructions treat data as unsigned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ddress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loads and stores use offset address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ometimes also called “indexed” addressing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 register holds a value which is an addres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ke a pointer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n the hardware looks at the address in memory supplied by that regist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hanging the value in the offset register doesn’t change the value in memory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gram Flow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nerally, an assembly program will just execute one instruction after another in a nice linear order until it reaches The En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wo kinds of instructions can change the flow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ranch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ubroutine Cal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’ve talked about the latter already.  So on to the former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ranch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eq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equal to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ge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greater than or equa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geu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unsigned greater than or equa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gt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greater tha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gtu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unsigned greater tha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le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less than or equa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leu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unsigned less than or equa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lt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A Tasty Sandwich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ltu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unsigned less tha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ne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Branch on not equa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r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- Unconditional Branch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me Simple Construc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 think you can figure out the “if” statement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r loop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i r16, 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op: &lt;stuff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ubi r16, r16,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bne r16, r0, lo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ne: &lt;other stuff&gt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4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Brief Intro to the “How’s, When’s and Why’s” of assembly language programming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 Intro to the Nios II Assembly langu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Little Programming Type Stuf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nother Simple Construc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witch statemen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1: ldw r16, input_offset(r15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i r17,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ne r16, r17, case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case 1 stuff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2: movi r17,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ne r16, r17, case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case 2 stuff&gt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d so on.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urier New"/>
              </a:rPr>
              <a:t># Comments start with the hash/pound sig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Just put these two lines at the top of your program and make the main entry point into your program have the label “main:”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lobal ma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Setting constant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equ  UARTtxDataReg, 4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Setting string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DumbString: .asciz “A String”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Doesn’t hurt to put “.data” before big collections of static data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ant to send a constant character out an I/O devic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i r15, ‘K’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wio r15, 5(r5)</a:t>
            </a:r>
            <a:br>
              <a:rPr sz="3200"/>
            </a:br>
            <a:r>
              <a:rPr b="0" lang="en-US" sz="3200" spc="-1" strike="noStrike">
                <a:solidFill>
                  <a:srgbClr val="00ff00"/>
                </a:solidFill>
                <a:latin typeface="Courier New"/>
              </a:rPr>
              <a:t># Assumptions: r5 contains the base address of the peripheral and the appropriate xmit reg is 5 past that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wio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Stuff at the E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ssembly is hard and lots of no fu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ut sometimes it’s necessary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the Nios II Processor Reference for all the nitty-gritty detail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fficient Programm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gramming is har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uh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ood programming is even hard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riting efficient code in a high-level language can be nigh on impossibl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sides, hardware designers didn’t design the chip for C or Java or Python or whatever.  It was designed for its ISA, which is most directly accessed by assembly language programm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en Do You Want to Write Assembly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alistically, never.  It’s even harder to write good assembly than good C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there are some exception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there’s no compiler for your target architectur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you don’t trust the available compiler or think you know better than the compil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performance is paramoun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code size must be minimiz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inux Kernel, Version 2.2.5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In file arch/i386/lib/delay.c: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&lt;linux/sched.h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&lt;linux/delay.h&g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__delay(unsigned long loop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_asm__ __volatile__(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\tjmp 1f \n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.align 16 \n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1:\tjmp 2f \n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.align 16 \n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2:\tdecl %0\n\tjns 2b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”=&amp;a” (d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”0” (loops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1981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ay -- Not possible with a H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inux Kernel, 2.2.5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file include/asm-i386/spinlock.h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On x86 we implement read-write locks as a 32-b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 counter with the high bit (sign) being the “writ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 bi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 The inline assembly is non-obvious.  Think about it. *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read_lock(rw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m volatile(“\n1:\t”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lock ; incl %0\n\t”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js f2\n”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… and so o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code is bit-twiddling with precise tim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mpiler vs. Assembl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compiler takes a high-level language, parses the syntax, builds a symbol table, and creates a file in some sort of “intermediate language”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is the Intermediate Language?  It varies by compiler. 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977040" indent="-20556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Visual Studio creates files in MSIL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77040" indent="-20556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GCC used GIMPLE and RTL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77040" indent="-20556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lder compilers might directly generate assembly languag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 assembler takes a specific set of instructions for a specific processor and generates machine code (and maybe some other stuff)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ssembly Lesson #0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Grande"/>
              </a:rPr>
              <a:t>TMTOWTDI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“Tim-toady”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roductory Stuff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3 Instruction Forma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, R, J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e the Processor Reference for detail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6-bit opcode mean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Grande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(64) potential opcodes, but not all are us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seudo-instruc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ometimes you write a line of code and the assembler transforms it into something els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ample: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gt rA, rB,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and the assembler turns it in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t rB, rA,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  Why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nly need to implement half as many instructions!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4:31:34Z</dcterms:created>
  <dc:creator>Christopher Cischke</dc:creator>
  <dc:description/>
  <dc:language>en-US</dc:language>
  <cp:lastModifiedBy>Christopher Cischke</cp:lastModifiedBy>
  <dcterms:modified xsi:type="dcterms:W3CDTF">2008-01-31T18:15:25Z</dcterms:modified>
  <cp:revision>6</cp:revision>
  <dc:subject/>
  <dc:title>EE 3173 Lecture 4</dc:title>
</cp:coreProperties>
</file>