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move the slid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35B3-6F5E-4949-801C-0A247BED9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C39B-5BF5-40BF-A537-BE8E8E2AE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B08C-4A9D-4E0B-B942-E94DA1520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AE9A-F04D-4598-AAAF-2A342B262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FED5-75FB-4DE0-822B-48F8F8860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DE02-878D-43C4-9591-0D082FF7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9E4F-2D9F-497F-BE41-ACB11555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2203-434E-496B-9CA6-62F29208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EE88-9535-40F3-A028-2676CC62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350C-8D39-459E-91E9-EBE627E6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E01F-4DB6-4DBE-BD8E-4638C2D4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8D32-1F49-4E2D-ADFF-FDC9C68A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B524-AB35-497B-8CFF-CC29FFF0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252E-F45F-4810-A96F-D401DB0A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93BC-9DAA-47FA-8469-8FB69E03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E8D7-5B83-4C4C-9026-81125A5F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01F9-2D19-4637-9DC3-23A231EF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42C7-B6D6-4DB5-814C-64C81642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F638-9DFA-40C6-A769-46FF73C2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DF5E-2EC9-4E98-90AE-81C034F0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937A-668C-4C4D-BFAC-CA2FAEF19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3B38-0C06-4AAC-B02A-308025EF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43AA-B2B5-4710-858D-DD0065C2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938E-E9FA-4CB5-AB3D-5487BDA0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6C80-B6F6-43B3-A89A-72BAA111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0835-C135-495E-B5B9-7C9CC609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C47-296A-4B50-815B-8E966894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BF66-4348-4590-8015-D1987069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3C5A-C4EF-4F34-BC87-4CAAAE35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BACD-6597-42A3-804D-ECEC63CEC15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99BB-76FC-4956-8425-EC59FA0FC2C4}" type="slidenum"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00040" indent="-22392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35920" indent="-22392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FFBF-158F-4DC1-8C7B-0AC3DC0FD04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39B2-A5D8-420D-B839-1F2CF35797F5}" type="slidenum"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E 3173 Lecture 12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ore IO Processing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C10E-2892-435A-B646-52CE9697A9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I/O Channel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I/O devices getting more sophisticat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e.g. 3D graphics card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PU instructs I/O controller to do transf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I/O controller does entire transf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Improves spe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akes load off CPU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Dedicated processor is fast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D310-BDAC-4C63-8267-99366C5AC5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I/O Channel Architectur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2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I/O Channel or I/O Processor (IOP)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37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Grande"/>
              </a:rPr>
              <a:t>Smart, programmable DMA Controller</a:t>
            </a:r>
            <a:endParaRPr b="0" lang="en-US" sz="15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37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Grande"/>
              </a:rPr>
              <a:t>A processor customized for I/O operations</a:t>
            </a:r>
            <a:endParaRPr b="0" lang="en-US" sz="1500" spc="-1" strike="noStrike">
              <a:solidFill>
                <a:srgbClr val="000000"/>
              </a:solidFill>
              <a:latin typeface="Lucida Grande"/>
            </a:endParaRPr>
          </a:p>
          <a:p>
            <a:pPr lvl="2" marL="1042200" indent="-219240">
              <a:spcBef>
                <a:spcPts val="3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I/O-specific instruction set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lvl="2" marL="1042200" indent="-219240">
              <a:spcBef>
                <a:spcPts val="3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I/O-specific register architecture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spcBef>
                <a:spcPts val="42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Attributes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37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Grande"/>
              </a:rPr>
              <a:t>More flexible than "dumb" DMA controller</a:t>
            </a:r>
            <a:endParaRPr b="0" lang="en-US" sz="1500" spc="-1" strike="noStrike">
              <a:solidFill>
                <a:srgbClr val="000000"/>
              </a:solidFill>
              <a:latin typeface="Lucida Grande"/>
            </a:endParaRPr>
          </a:p>
          <a:p>
            <a:pPr lvl="2" marL="1042200" indent="-219240">
              <a:spcBef>
                <a:spcPts val="3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Services  more I/O devices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lvl="2" marL="1042200" indent="-219240">
              <a:spcBef>
                <a:spcPts val="3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Services a wider variety of I/O devices at one time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37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Grande"/>
              </a:rPr>
              <a:t>Has more control over I/O operations</a:t>
            </a:r>
            <a:endParaRPr b="0" lang="en-US" sz="1500" spc="-1" strike="noStrike">
              <a:solidFill>
                <a:srgbClr val="000000"/>
              </a:solidFill>
              <a:latin typeface="Lucida Grande"/>
            </a:endParaRPr>
          </a:p>
          <a:p>
            <a:pPr lvl="1" marL="713160" indent="-274320">
              <a:spcBef>
                <a:spcPts val="37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Grande"/>
              </a:rPr>
              <a:t>Can handle more complex data transfers </a:t>
            </a:r>
            <a:endParaRPr b="0" lang="en-US" sz="15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12042" t="10922" r="20769" b="14183"/>
          <a:stretch/>
        </p:blipFill>
        <p:spPr>
          <a:xfrm>
            <a:off x="5256360" y="1874880"/>
            <a:ext cx="282240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C072-D0CE-423E-821A-97429D27CF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PU - IOP Interaction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Most CPU - IOP communication 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85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is passed via messages left in main memory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85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uses pre-agreed memory location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15360" indent="-315360">
              <a:lnSpc>
                <a:spcPct val="85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CPU initiates an I/O operation by: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85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storing the starting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Lucida Grande"/>
              </a:rPr>
              <a:t>address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 of the IOP program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85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storing parameters the IOP will need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85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issuing and attention signal (ATT) to wake up IOP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15360" indent="-315360">
              <a:lnSpc>
                <a:spcPct val="85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IOP then executes the I/O operation by: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85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fetching the I/O progra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Lucida Grande"/>
              </a:rPr>
              <a:t>address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 from memory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85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loading it into its own Program Counter (PC).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85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executing the I/O program (including any DMA)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83280" indent="-262800">
              <a:lnSpc>
                <a:spcPct val="85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issuing a completion INTR to the CPU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5C5B-3DC7-4BCE-A0BF-77DF74BEBC08}" type="slidenum">
              <a:t>12</a:t>
            </a:fld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/O Channel Architectur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5204880"/>
            <a:ext cx="82296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ypically, CPU and IOP share same memory spac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ignificant Bus Contention between processor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5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CPU instr &amp; data  +  DMA  +  IOP instr &amp; data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374840" y="1874880"/>
            <a:ext cx="6394320" cy="333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93BC-3B2E-42E3-BE46-BBBFF63040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Dual-Bus Channel Architectur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503352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Reduces Traffic on System Bus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IOP can manage two memory spaces as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two partitions of a single address space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43200" y="1874880"/>
            <a:ext cx="5457600" cy="315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903C-8E41-4ADD-AF0A-1DD78C036B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OP Instruction Se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ustomized to I/O Instructio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rithmetic Instructions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20600" indent="-21456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No floating poin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20600" indent="-21456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Limited fixed-point instructions for address calculation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General I/O instructions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20600" indent="-21456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o set-up and clean-up before and after transfer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20600" indent="-21456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o initiate DMA transfer (e.g. READ, WRITE, XFER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20600" indent="-21456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Note: DMA must be hardware-implemented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evice Specific Instruction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20600" indent="-21456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r comm. with devices (e.g. REWIND, SEEK, PRINT_LINE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E2F9-D49A-40C5-AD0A-AC00CA3C81A4}" type="slidenum">
              <a:t>15</a:t>
            </a:fld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Relevant CPU Instruction Se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ay be Sufficient to have one instruc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Asserts the ATT signal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All I/O parameters must have been previously stored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ay be more Efficient with special I/O  instruction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e.g. START-IO, HALT-IO, TEST-IO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Each I/O  instruction would: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2" marL="987840" indent="-207720"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Place IOP address on Address bu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987840" indent="-207720"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Place IOP command on Data bu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987840" indent="-207720"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Assert ATT lin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More useful in CPU designed for mainframe system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21AB-B5D5-40EC-8C9D-CC89D04ED191}" type="slidenum">
              <a:t>16</a:t>
            </a:fld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ase Study: Intel 8089 IOP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Companion to 8086 CPU (old, simple, documented)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Has 2 parallel IOP's (a.k.a. Channels) on 1 chip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ome resources are shared between the 2 channel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Notes on 8086 bus architecture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Addr. &amp; Data time-multiplexed on same physical lin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Address = [A19... A0]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 20 bi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 1 MB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Data      = [D15 ... D0] = [A15 ... A0]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 16 bit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Word-size translatio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CPU operates with 16-bit word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Many I/O devices are byte-oriented (=&gt; 8-bit words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IOP must translate word-size if required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FFC3-08F4-4CAF-819B-C7F5D3C72C35}" type="slidenum">
              <a:t>17</a:t>
            </a:fld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8089 Major Internal Componen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Instruction Fetch Unit and Control Section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20-bit integer ALU for address calculations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Two DMA Channels (IOP's)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CA   = Channel Attention (ATT) sign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EL = Channel Select sign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Assembly / Disassembly:  8-bit - 16-bit conversions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Bus Interface Unit  (BIU)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One BIU can handle dual-bus system architectur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Need external latches and MUXes to separate buss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Uses Highest Order address bit to discriminate buss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B7AC-4E57-4C0D-A2A4-6B23472B75D5}" type="slidenum">
              <a:t>18</a:t>
            </a:fld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8089 Block Diagram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972" t="3693" r="0" b="1398"/>
          <a:stretch/>
        </p:blipFill>
        <p:spPr>
          <a:xfrm>
            <a:off x="1293840" y="1874880"/>
            <a:ext cx="655488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A253-3033-4923-9E09-0206CB9510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Lecture 7 Concep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O Programming -- Adding some intelligence to I/O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presentative samples and case studie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x86 interrup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tel 8237A DMAC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/O Channel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718C-CE61-4950-85AF-479E0F2AB0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PU - IOP Communication  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CPU-IOP communication: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hrough shared data structures in main memor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1 8086 “word” = 16 bit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8086 / 8089 shared data structure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Grande"/>
              </a:rPr>
              <a:t>CCB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= Channel Control Block (4 words per channel)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Parameter Block (PB) Pointer  (2 words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Channel Status Word  (1 word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Channel Command  (1 word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Grande"/>
              </a:rPr>
              <a:t>CPB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= Channel Parameter Block (variable length)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IO program pointer = address of I/O pgm  (2 words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IO program parameters (as many as needed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65E6-ACE6-4443-8326-D784C3A03FBB}" type="slidenum">
              <a:t>20</a:t>
            </a:fld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PU-IOP Communic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641680" y="1874880"/>
            <a:ext cx="386064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00B3-2E38-42DB-A582-D091FD550E0D}" type="slidenum">
              <a:t>21</a:t>
            </a:fld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PU-IOP Communic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hannel 1: screen update execution &amp; keyboard inpu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hannel 2: screen buffer &amp; floppy drive contro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25440" y="3753000"/>
            <a:ext cx="6367680" cy="263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D737-0859-4A05-950D-20D89685AE7C}" type="slidenum">
              <a:t>22</a:t>
            </a:fld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Register Architectur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ain Addressing Registe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6705360" cy="293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EBF1-3676-41BD-BA49-0BF1080606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Register Architectur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trol Registe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5181480" cy="35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9C94-9D96-41CF-8AB3-17D03F07AD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rcRect l="5361" t="0" r="0" b="0"/>
          <a:stretch/>
        </p:blipFill>
        <p:spPr>
          <a:xfrm>
            <a:off x="762120" y="1828800"/>
            <a:ext cx="3254400" cy="4194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rcRect l="0" t="0" r="36986" b="0"/>
          <a:stretch/>
        </p:blipFill>
        <p:spPr>
          <a:xfrm>
            <a:off x="5791320" y="1752480"/>
            <a:ext cx="2547720" cy="42674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Lucida Grande"/>
              </a:rPr>
              <a:t>Register - Data Structure Relationships</a:t>
            </a:r>
            <a:endParaRPr b="1" lang="en-US" sz="40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9FAD-5293-4643-8DFB-2A99CC97A9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8089 DMA Mode Oper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DMA Mod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Grande"/>
              </a:rPr>
              <a:t>initiated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 by “XFER” instruction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Suspends instruction fetch-execute cycle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Turns control over to hard-wired DMA controller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DMA controller handles the actual data transfer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DMA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Grande"/>
              </a:rPr>
              <a:t>terminated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 by conditions defined in CC register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Single transfer (1 Byte)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Terminate when byte count = 0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Wait for external "terminate" signal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Terminate on (masked) comparison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2" marL="1009440" indent="-2124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Based on actual data stream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09440" indent="-2124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Allows IOP to detect special symbols (e.g. EOF)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4312-219A-48DD-8B9A-F4C311C15FF9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8089 Masked Comparison 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Example: Want to terminate I/O transfer at EOF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12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EOF = ASCII &lt;cntl&gt;Z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2" marL="1031400" indent="-217080">
              <a:lnSpc>
                <a:spcPct val="12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ASCII = 7-bit code with optional 8th parity bi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12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Before entering DMA mode: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2" marL="1031400" indent="-217080">
              <a:lnSpc>
                <a:spcPct val="12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pre-load &lt;cntl&gt;Z into COMPARE registe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31400" indent="-217080">
              <a:lnSpc>
                <a:spcPct val="12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load MASK register to ignore high-order (parity) bi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12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While in DMA mode: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2" marL="1031400" indent="-217080">
              <a:lnSpc>
                <a:spcPct val="12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Compare each byte transferred to the COMPARE reg.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31400" indent="-217080">
              <a:lnSpc>
                <a:spcPct val="12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erminate DMA if :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3" marL="1357200" indent="-217080">
              <a:lnSpc>
                <a:spcPct val="120000"/>
              </a:lnSpc>
              <a:spcBef>
                <a:spcPts val="4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masked data value = masked COMPARE reg.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304B-C8F5-46D5-86F6-2FE20B44EF77}" type="slidenum">
              <a:t>27</a:t>
            </a:fld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Overview of 8089 Oper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Grande"/>
              </a:rPr>
              <a:t>High Level Sequence of events</a:t>
            </a:r>
            <a:br>
              <a:rPr sz="2500"/>
            </a:b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Power Up Initialization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Lucida Grande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Wait for CA and SEL signal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Read program start-up parameters from CCB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Enter program mode (= Task Block (TB) mode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    Enter DMA Mode (do I/O transfer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Return to program mode (exec more program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Store status valu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go to </a:t>
            </a:r>
            <a:r>
              <a:rPr b="1" i="1" lang="en-US" sz="1800" spc="-1" strike="noStrike">
                <a:solidFill>
                  <a:srgbClr val="000000"/>
                </a:solidFill>
                <a:latin typeface="Lucida Grande"/>
              </a:rPr>
              <a:t>wait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7608-A8FC-4184-AEBE-33E0EADED8FB}" type="slidenum">
              <a:t>28</a:t>
            </a:fld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8089 State Diagram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Allows for two simultaneous DMA transactions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Much simpler than the FSM for a CPU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Each DMAC is going to have a similar but different functionality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Instruction set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Block size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Address space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0" t="1344" r="0" b="672"/>
          <a:stretch/>
        </p:blipFill>
        <p:spPr>
          <a:xfrm>
            <a:off x="666720" y="1874880"/>
            <a:ext cx="361620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1A8D-DB06-48CF-843F-A02BFC452D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xample - PC Bu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2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Many devices had companion devices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90000"/>
              </a:lnSpc>
              <a:spcBef>
                <a:spcPts val="37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Grande"/>
              </a:rPr>
              <a:t>Becoming less common as we are able to place more complexity on a single device</a:t>
            </a:r>
            <a:endParaRPr b="0" lang="en-US" sz="15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90000"/>
              </a:lnSpc>
              <a:spcBef>
                <a:spcPts val="37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Grande"/>
              </a:rPr>
              <a:t>Now more commonly elements of a SoC – chipset, host controller, etc</a:t>
            </a:r>
            <a:endParaRPr b="0" lang="en-US" sz="15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42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8259A - 80x86 interrupt controller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90000"/>
              </a:lnSpc>
              <a:spcBef>
                <a:spcPts val="37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Grande"/>
              </a:rPr>
              <a:t>8086 device has one interrupt line</a:t>
            </a:r>
            <a:endParaRPr b="0" lang="en-US" sz="15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90000"/>
              </a:lnSpc>
              <a:spcBef>
                <a:spcPts val="37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Grande"/>
              </a:rPr>
              <a:t>8086 based systems can use one or more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ucida Grande"/>
              </a:rPr>
              <a:t>8259A interrupt controllers</a:t>
            </a:r>
            <a:endParaRPr b="0" lang="en-US" sz="15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90000"/>
              </a:lnSpc>
              <a:spcBef>
                <a:spcPts val="37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Grande"/>
              </a:rPr>
              <a:t>8259A enables 8 separate interrupt lin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ucida Grande"/>
              </a:rPr>
              <a:t>IRQ1-8</a:t>
            </a:r>
            <a:endParaRPr b="0" lang="en-US" sz="15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42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Grande"/>
              </a:rPr>
              <a:t>8237A - 80x86 DMA controller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90000"/>
              </a:lnSpc>
              <a:spcBef>
                <a:spcPts val="37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Grande"/>
              </a:rPr>
              <a:t>80x86 does not have a built in DMA controller</a:t>
            </a:r>
            <a:endParaRPr b="0" lang="en-US" sz="15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90000"/>
              </a:lnSpc>
              <a:spcBef>
                <a:spcPts val="37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Grande"/>
              </a:rPr>
              <a:t>The </a:t>
            </a:r>
            <a:r>
              <a:rPr b="0" lang="en-GB" sz="1500" spc="-1" strike="noStrike">
                <a:solidFill>
                  <a:srgbClr val="000000"/>
                </a:solidFill>
                <a:latin typeface="Lucida Grande"/>
              </a:rPr>
              <a:t>8237A is one DMA Controller for the PC Bus</a:t>
            </a:r>
            <a:endParaRPr b="0" lang="en-US" sz="15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42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Lucida Grande"/>
              </a:rPr>
              <a:t>8089 – 80x86 IO processor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90000"/>
              </a:lnSpc>
              <a:spcBef>
                <a:spcPts val="37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Lucida Grande"/>
              </a:rPr>
              <a:t>A full coprocessor to offload I/O processing</a:t>
            </a:r>
            <a:endParaRPr b="0" lang="en-US" sz="15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lnSpc>
                <a:spcPct val="90000"/>
              </a:lnSpc>
              <a:spcBef>
                <a:spcPts val="37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Lucida Grande"/>
              </a:rPr>
              <a:t>The predecessor to the modern “IO Channel”</a:t>
            </a:r>
            <a:endParaRPr b="0" lang="en-US" sz="15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E741-30F0-477C-B4BD-DAF603D3CF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8089 Instructions of Interes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XFER = Switch to DMA mode hardware controll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top fetching and executing instruction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urn control over to hardwired DMA controller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xecutes one more instruction before switching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XFER delay slot (like a TRAP delay slot)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ALT = Return to wait state (end program mode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INTR = Issue completion INTR signal to CPU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Not done automatically on HAL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Must use SINTR in program before HAL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4B6D-2050-44B4-986A-A30B3EA114AA}" type="slidenum">
              <a:t>30</a:t>
            </a:fld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Lecture 12 Summar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5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IOP (Channel) = Special Purpose Processor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5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ISA customized for IO operation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5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Built-in hard-wired DMA Controller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5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CPU - IOP Interactions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5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Shared memory area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5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CPU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2" marL="1053000" indent="-221400">
              <a:lnSpc>
                <a:spcPct val="95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tores command, pgm address, parameter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53000" indent="-221400">
              <a:lnSpc>
                <a:spcPct val="95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issues ATT sign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5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IOP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2" marL="1053000" indent="-221400">
              <a:lnSpc>
                <a:spcPct val="95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reads stored info &amp; executes IO program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53000" indent="-221400">
              <a:lnSpc>
                <a:spcPct val="95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tores status of IO operatio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53000" indent="-221400">
              <a:lnSpc>
                <a:spcPct val="95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issues completion INT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CFD0-D8DD-4B94-A2E7-50117B590CE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equence of Even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8259A accepts interrup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8259A determines priorit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8259A signals 8086 (raises INTR line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PU Acknowledg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8259A puts correct vector on data bu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PU processes interrup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E335-9135-4331-9A1B-5C557A9585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82C59A Interrupt Controller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ISA bus chains two 8259As together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Link is via interrupt 2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Gives 15 lines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16 lines less one for link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IRQ 9 is used to re-route anything trying to use IRQ 2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Backwards compatibilit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Incorporated in chip set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6416" t="4410" r="14851" b="9840"/>
          <a:stretch/>
        </p:blipFill>
        <p:spPr>
          <a:xfrm>
            <a:off x="5222880" y="1874880"/>
            <a:ext cx="288936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E867-EB2F-4C44-B97F-B878C9F083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Intel 82C55A – Interface devic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5103360"/>
            <a:ext cx="53942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Parallel I/O device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Adds parallel ports into the I/O memory map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8686" t="11245" r="18588" b="27272"/>
          <a:stretch/>
        </p:blipFill>
        <p:spPr>
          <a:xfrm>
            <a:off x="533520" y="1828800"/>
            <a:ext cx="4419360" cy="2884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12042" t="7666" r="23286" b="20695"/>
          <a:stretch/>
        </p:blipFill>
        <p:spPr>
          <a:xfrm>
            <a:off x="5410080" y="1752480"/>
            <a:ext cx="2990880" cy="429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37E8-F803-494F-AFBA-7E4BDD29F2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Intel 8237A DMA Controller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Interfaces to 80x86 family and DRAM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When DMA module needs buses it sends HOLD signal to processo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CPU responds HLDA (hold acknowledge)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Grande"/>
              </a:rPr>
              <a:t>DMA module can use buses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Grande"/>
              </a:rPr>
              <a:t>Example: Transfer data from memory to disk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425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Lucida Grande"/>
              </a:rPr>
              <a:t>Device requests service of DMA by pulling DREQ (DMA request) high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Grande"/>
              </a:rPr>
              <a:t>DMA puts high on HRQ (hold request),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Grande"/>
              </a:rPr>
              <a:t>CPU finishes present bus cycle (not necessarily present instruction) and puts high on HDLA (hold acknowledge). HOLD remains active for duration of DMA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Grande"/>
              </a:rPr>
              <a:t>DMA activates DACK (DMA acknowledge), telling device to start transfer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Grande"/>
              </a:rPr>
              <a:t>DMA starts transfer by putting address of first byte on address bus and activating MEMR; it then activates IOW to write to peripheral. DMA decrements counter and increments address pointer.  Repeat until count reaches zero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4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Grande"/>
              </a:rPr>
              <a:t>DMA deactivates HRQ, giving bus back to CPU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B76E-B6CC-41F5-B814-8A1C354F18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8237 DMA Usag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5298"/>
          <a:stretch/>
        </p:blipFill>
        <p:spPr>
          <a:xfrm>
            <a:off x="1413000" y="1874880"/>
            <a:ext cx="631656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5B1C-8F45-4966-B8C4-0DA2EFDDC4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8237 Overview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Grande"/>
              </a:rPr>
              <a:t>While DMA using buses processor idle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Grande"/>
              </a:rPr>
              <a:t>Processor using bus, DMA idle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Grande"/>
              </a:rPr>
              <a:t>Known as fly-by DMA controller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Grande"/>
              </a:rPr>
              <a:t>Data does not pass through and is not stored in DMA chip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Grande"/>
              </a:rPr>
              <a:t>DMA only between I/O port and memory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Grande"/>
              </a:rPr>
              <a:t>Not between two I/O ports or two memory location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Grande"/>
              </a:rPr>
              <a:t>Can do memory to memory via register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Grande"/>
              </a:rPr>
              <a:t>8237 contains four DMA channels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Grande"/>
              </a:rPr>
              <a:t>Programmed independently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Grande"/>
              </a:rPr>
              <a:t>Any one active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Grande"/>
              </a:rPr>
              <a:t>Numbered 0, 1, 2, and 3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2119-2BD5-4E07-8C49-0B99ECCE61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03:38Z</dcterms:created>
  <dc:creator>Christopher Cischke</dc:creator>
  <dc:description/>
  <dc:language>en-US</dc:language>
  <cp:lastModifiedBy>Christopher Cischke</cp:lastModifiedBy>
  <dcterms:modified xsi:type="dcterms:W3CDTF">2008-03-24T17:57:25Z</dcterms:modified>
  <cp:revision>4</cp:revision>
  <dc:subject/>
  <dc:title>EE 3173 Lecture 7</dc:title>
</cp:coreProperties>
</file>